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7.png" ContentType="image/png"/>
  <Override PartName="/ppt/media/image14.wmf" ContentType="image/x-wmf"/>
  <Override PartName="/ppt/media/image56.jpeg" ContentType="image/jpeg"/>
  <Override PartName="/ppt/media/image10.wmf" ContentType="image/x-wmf"/>
  <Override PartName="/ppt/media/image54.wmf" ContentType="image/x-wmf"/>
  <Override PartName="/ppt/media/image8.png" ContentType="image/png"/>
  <Override PartName="/ppt/media/image3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7.png" ContentType="image/png"/>
  <Override PartName="/ppt/media/image40.png" ContentType="image/png"/>
  <Override PartName="/ppt/media/image4.jpeg" ContentType="image/jpeg"/>
  <Override PartName="/ppt/media/image36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image66.png" ContentType="image/png"/>
  <Override PartName="/ppt/media/image65.wmf" ContentType="image/x-wmf"/>
  <Override PartName="/ppt/media/image2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51.jpeg" ContentType="image/jpeg"/>
  <Override PartName="/ppt/media/image60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4.png" ContentType="image/png"/>
  <Override PartName="/ppt/media/image27.png" ContentType="image/png"/>
  <Override PartName="/ppt/media/image55.png" ContentType="image/png"/>
  <Override PartName="/ppt/media/image20.jpeg" ContentType="image/jpe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wmf" ContentType="image/x-wmf"/>
  <Override PartName="/ppt/media/image33.wmf" ContentType="image/x-wmf"/>
  <Override PartName="/ppt/media/image1.png" ContentType="image/png"/>
  <Override PartName="/ppt/media/image52.jpeg" ContentType="image/jpeg"/>
  <Override PartName="/ppt/media/image34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9.jpeg" ContentType="image/jpeg"/>
  <Override PartName="/ppt/media/image23.png" ContentType="image/png"/>
  <Override PartName="/ppt/media/image5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8680" y="-360"/>
            <a:ext cx="426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65280" y="533160"/>
            <a:ext cx="3251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324120"/>
            <a:ext cx="4267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8680" y="6324120"/>
            <a:ext cx="4267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00B9-EBB9-4155-886B-2F10DC2E0D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3365640" y="53352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95280" y="3200040"/>
            <a:ext cx="7315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дуль предназначен для учета воздушных судов, их эксплуатационного состава, учета ресурсов, учета работы воздушного судна и входящих в него ПКИ, учет отказов и КУН, учет регламентов и ТО, а так же для формирования отчетов по имеющейся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отслеживания пересмотров сроков и состава работ используется механизм версий. Изменить плановые сроки может только ответственный за проект. При этом вся история сроков сохраняется в виде версий проектов и всегда может быть отслежена. Каждый пересмотр плановых сроков и состава работ по проекту может быть согласован и утвержде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рудоемкость работы и процент ее выполнения могут задаваться явно или быть рассчитаны по трудоемкости и проценту выполнения входящих в нее рабо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297240" y="500040"/>
            <a:ext cx="3335400" cy="2502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324080" y="3166560"/>
            <a:ext cx="7278480" cy="30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ля удобства работы пользователь может просматривать проекты по всей базе или проекты только из определенной папки. При этом отображаемые проекты могут быть отфильтрованы по любому критерию («просроченные работы», «работы, которые я должен выполнить в течение ближайшей недели», «работы выполненные таким-то сотрудником за последний месяц»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439-2851-4759-9FE9-BC0D00FC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B06-41F5-4D7F-AA5A-AF2E115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42F-49EA-4E5E-82F2-D5F3A0C2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10F-B9CB-4678-9F02-07841FE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68A-2BA1-4A71-A700-3644E88C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E7-A715-425D-B817-24D57E9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4A4-32D9-4A22-A025-C44B478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BEB-56DA-437D-9DD7-48B5E0F6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247-373B-4000-B7E0-D04EBBFC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334-0C5A-4283-9192-18A1E067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A5A-71D8-4304-A4D7-3D09C91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FCC-6FCB-408A-9006-59FF14D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9D6B-8E16-4A0C-8CF1-D43654DB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ls.ru/" TargetMode="External"/><Relationship Id="rId2" Type="http://schemas.openxmlformats.org/officeDocument/2006/relationships/hyperlink" Target="http://www.cals.ru/" TargetMode="External"/><Relationship Id="rId3" Type="http://schemas.openxmlformats.org/officeDocument/2006/relationships/hyperlink" Target="http://www.cals.ru/" TargetMode="External"/><Relationship Id="rId4" Type="http://schemas.openxmlformats.org/officeDocument/2006/relationships/hyperlink" Target="http://www.cals.ru/" TargetMode="External"/><Relationship Id="rId5" Type="http://schemas.openxmlformats.org/officeDocument/2006/relationships/hyperlink" Target="mailto:ayatsk@cals.ru" TargetMode="External"/><Relationship Id="rId6" Type="http://schemas.openxmlformats.org/officeDocument/2006/relationships/hyperlink" Target="mailto:ayatsk@cals.ru" TargetMode="External"/><Relationship Id="rId7" Type="http://schemas.openxmlformats.org/officeDocument/2006/relationships/hyperlink" Target="mailto:ayatsk@cals.ru" TargetMode="External"/><Relationship Id="rId8" Type="http://schemas.openxmlformats.org/officeDocument/2006/relationships/hyperlink" Target="mailto:ayatsk@cals.ru" TargetMode="External"/><Relationship Id="rId9" Type="http://schemas.openxmlformats.org/officeDocument/2006/relationships/hyperlink" Target="mailto:ayatsk@cals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wmf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cals.ru/" TargetMode="External"/><Relationship Id="rId2" Type="http://schemas.openxmlformats.org/officeDocument/2006/relationships/hyperlink" Target="http://www.cals.ru/" TargetMode="External"/><Relationship Id="rId3" Type="http://schemas.openxmlformats.org/officeDocument/2006/relationships/hyperlink" Target="http://www.cals.ru/" TargetMode="External"/><Relationship Id="rId4" Type="http://schemas.openxmlformats.org/officeDocument/2006/relationships/hyperlink" Target="http://www.cals.ru/" TargetMode="External"/><Relationship Id="rId5" Type="http://schemas.openxmlformats.org/officeDocument/2006/relationships/hyperlink" Target="mailto:ayatsk@cals.ru" TargetMode="External"/><Relationship Id="rId6" Type="http://schemas.openxmlformats.org/officeDocument/2006/relationships/hyperlink" Target="mailto:ayatsk@cals.ru" TargetMode="External"/><Relationship Id="rId7" Type="http://schemas.openxmlformats.org/officeDocument/2006/relationships/hyperlink" Target="mailto:ayatsk@cals.ru" TargetMode="External"/><Relationship Id="rId8" Type="http://schemas.openxmlformats.org/officeDocument/2006/relationships/hyperlink" Target="mailto:ayatsk@cals.ru" TargetMode="External"/><Relationship Id="rId9" Type="http://schemas.openxmlformats.org/officeDocument/2006/relationships/hyperlink" Target="mailto:ayatsk@cals.ru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5840" y="2109960"/>
            <a:ext cx="8534520" cy="25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DM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STEP Su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31520" y="5234040"/>
            <a:ext cx="263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Яцкевич А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9692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e1ff"/>
                </a:solidFill>
                <a:latin typeface="Arial"/>
              </a:rPr>
              <a:t>НИЦ </a:t>
            </a:r>
            <a:r>
              <a:rPr b="1" i="1" lang="en-US" sz="2600" spc="-1" strike="noStrike">
                <a:solidFill>
                  <a:srgbClr val="c3e1ff"/>
                </a:solidFill>
                <a:latin typeface="Arial"/>
              </a:rPr>
              <a:t>CALS</a:t>
            </a:r>
            <a:r>
              <a:rPr b="1" i="1" lang="ru-RU" sz="2600" spc="-1" strike="noStrike">
                <a:solidFill>
                  <a:srgbClr val="c3e1ff"/>
                </a:solidFill>
                <a:latin typeface="Arial"/>
              </a:rPr>
              <a:t>-технологий «Прикладная логистик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4040" y="806400"/>
            <a:ext cx="8639280" cy="0"/>
          </a:xfrm>
          <a:prstGeom prst="line">
            <a:avLst/>
          </a:prstGeom>
          <a:ln w="28440">
            <a:solidFill>
              <a:srgbClr val="c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7480" y="5938920"/>
            <a:ext cx="792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3e1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66ccff"/>
                </a:solidFill>
                <a:latin typeface="Arial"/>
              </a:rPr>
              <a:t>(095) 955-51-37 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als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ru</a:t>
            </a:r>
            <a:r>
              <a:rPr b="1" i="1" lang="ru-RU" sz="2600" spc="-1" strike="noStrike">
                <a:solidFill>
                  <a:srgbClr val="66ccff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ayatsk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@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cals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6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2_340_&amp;white" descr=""/>
          <p:cNvPicPr/>
          <p:nvPr/>
        </p:nvPicPr>
        <p:blipFill>
          <a:blip r:embed="rId10"/>
          <a:stretch/>
        </p:blipFill>
        <p:spPr>
          <a:xfrm>
            <a:off x="7588080" y="1195560"/>
            <a:ext cx="1175040" cy="13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ав изделия (на примере ТУ-2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Функциональный%20состав%20ТУ%20214" descr=""/>
          <p:cNvPicPr/>
          <p:nvPr/>
        </p:nvPicPr>
        <p:blipFill>
          <a:blip r:embed="rId2"/>
          <a:stretch/>
        </p:blipFill>
        <p:spPr>
          <a:xfrm>
            <a:off x="152280" y="2225520"/>
            <a:ext cx="4264200" cy="4372200"/>
          </a:xfrm>
          <a:prstGeom prst="rect">
            <a:avLst/>
          </a:prstGeom>
          <a:ln w="0">
            <a:noFill/>
          </a:ln>
        </p:spPr>
      </p:pic>
      <p:pic>
        <p:nvPicPr>
          <p:cNvPr id="161" name="Зональная%20разбивка%20ТУ%20214" descr=""/>
          <p:cNvPicPr/>
          <p:nvPr/>
        </p:nvPicPr>
        <p:blipFill>
          <a:blip r:embed="rId3"/>
          <a:stretch/>
        </p:blipFill>
        <p:spPr>
          <a:xfrm>
            <a:off x="4767120" y="2225520"/>
            <a:ext cx="4229280" cy="4343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1539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ункциональный контекс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ональный кон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ариантная структура изд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61596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5715000"/>
            <a:ext cx="6858000" cy="0"/>
          </a:xfrm>
          <a:prstGeom prst="line">
            <a:avLst/>
          </a:prstGeom>
          <a:ln w="2844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920" y="586728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1676520"/>
            <a:ext cx="6324840" cy="45720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Покр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743200"/>
            <a:ext cx="1905120" cy="4572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Диск ли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276720"/>
            <a:ext cx="2514600" cy="4572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Диск кова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286000"/>
            <a:ext cx="0" cy="342900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2286000"/>
            <a:ext cx="0" cy="342900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286000"/>
            <a:ext cx="0" cy="342900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01000" y="2362320"/>
            <a:ext cx="0" cy="335268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2743200"/>
            <a:ext cx="1905120" cy="457200"/>
          </a:xfrm>
          <a:prstGeom prst="rect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Диск ли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495680"/>
            <a:ext cx="2971800" cy="457200"/>
          </a:xfrm>
          <a:prstGeom prst="rect">
            <a:avLst/>
          </a:prstGeom>
          <a:solidFill>
            <a:srgbClr val="0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Диск кова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3276720" cy="457200"/>
          </a:xfrm>
          <a:prstGeom prst="rect">
            <a:avLst/>
          </a:prstGeom>
          <a:solidFill>
            <a:srgbClr val="0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Диск ли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74320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640" y="274320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каз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1972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5600" y="44197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каз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962520"/>
            <a:ext cx="0" cy="1752480"/>
          </a:xfrm>
          <a:prstGeom prst="line">
            <a:avLst/>
          </a:prstGeom>
          <a:ln w="2844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Описание допустимых заме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3080" y="1146240"/>
            <a:ext cx="863892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4160" y="15652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стые аналоги (один на од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2760" y="2652840"/>
            <a:ext cx="712800" cy="32364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95560" y="2347560"/>
            <a:ext cx="1082520" cy="30492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95560" y="2814480"/>
            <a:ext cx="1082520" cy="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95560" y="2976480"/>
            <a:ext cx="1082520" cy="33336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8080" y="216684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8080" y="2652840"/>
            <a:ext cx="712800" cy="32364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78080" y="3129120"/>
            <a:ext cx="712800" cy="32364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3880" y="19130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мена одного нескольк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89560" y="3511440"/>
            <a:ext cx="712800" cy="3240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84880" y="253368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913440" y="269064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84880" y="301932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913440" y="317664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84880" y="351144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913440" y="366876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84880" y="401796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913440" y="417528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84880" y="451800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913440" y="467532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13440" y="2690640"/>
            <a:ext cx="0" cy="48600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13440" y="3689280"/>
            <a:ext cx="0" cy="9860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102360" y="2857680"/>
            <a:ext cx="811080" cy="65376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02360" y="3648240"/>
            <a:ext cx="811080" cy="52704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5000" y="371304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мена нескольких  нескольк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2760" y="5491080"/>
            <a:ext cx="712800" cy="3240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435600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230480" y="5194440"/>
            <a:ext cx="271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842000"/>
            <a:ext cx="712800" cy="32364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30480" y="5680080"/>
            <a:ext cx="271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5334120"/>
            <a:ext cx="712800" cy="32364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66840" y="549108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584028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166840" y="599760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6340320"/>
            <a:ext cx="712800" cy="324000"/>
          </a:xfrm>
          <a:prstGeom prst="rect">
            <a:avLst/>
          </a:prstGeom>
          <a:noFill/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66840" y="649764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01920" y="5194440"/>
            <a:ext cx="0" cy="485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66840" y="5511960"/>
            <a:ext cx="0" cy="9856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501920" y="4679640"/>
            <a:ext cx="664920" cy="65412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01920" y="5491080"/>
            <a:ext cx="664920" cy="506520"/>
          </a:xfrm>
          <a:prstGeom prst="line">
            <a:avLst/>
          </a:prstGeom>
          <a:ln w="1908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2760" y="4998960"/>
            <a:ext cx="712800" cy="3240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166840" y="451332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166840" y="4998960"/>
            <a:ext cx="271440" cy="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6840" y="4513320"/>
            <a:ext cx="0" cy="4856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760" y="61128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Печать спецификации в соответствии с ГОСТ 2.1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51080" y="4518000"/>
            <a:ext cx="2662200" cy="81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8720" y="5511960"/>
            <a:ext cx="44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шт., примен. совместно с поз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амен поз.4 совместно с поз.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Многовариантность задания материа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9880" y="71136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83640" y="2489040"/>
            <a:ext cx="923760" cy="690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.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1828800"/>
            <a:ext cx="1711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оритет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895480"/>
            <a:ext cx="1711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оритет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4008600"/>
            <a:ext cx="1711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оритет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54440" y="4013280"/>
            <a:ext cx="2090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оритет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5080" y="2489040"/>
            <a:ext cx="1704960" cy="690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улка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3332160"/>
            <a:ext cx="1711440" cy="668880"/>
            <a:chOff x="5410080" y="3332160"/>
            <a:chExt cx="1711440" cy="668880"/>
          </a:xfrm>
        </p:grpSpPr>
        <p:sp>
          <p:nvSpPr>
            <p:cNvPr id="240" name=""/>
            <p:cNvSpPr/>
            <p:nvPr/>
          </p:nvSpPr>
          <p:spPr>
            <a:xfrm>
              <a:off x="5418000" y="3602160"/>
              <a:ext cx="16956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уток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0080" y="3332160"/>
              <a:ext cx="1711440" cy="27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л-во 5000 мм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854440" y="3332160"/>
            <a:ext cx="2084040" cy="673560"/>
            <a:chOff x="2854440" y="3332160"/>
            <a:chExt cx="2084040" cy="673560"/>
          </a:xfrm>
        </p:grpSpPr>
        <p:sp>
          <p:nvSpPr>
            <p:cNvPr id="243" name=""/>
            <p:cNvSpPr/>
            <p:nvPr/>
          </p:nvSpPr>
          <p:spPr>
            <a:xfrm>
              <a:off x="2860560" y="3606840"/>
              <a:ext cx="207792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Заготовка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54440" y="3332160"/>
              <a:ext cx="1711080" cy="27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л-во 1 шт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H="1">
            <a:off x="7121520" y="391176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52880" y="391176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78720" y="2951280"/>
            <a:ext cx="0" cy="960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78720" y="2951280"/>
            <a:ext cx="3049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410080" y="2214720"/>
            <a:ext cx="1711440" cy="673200"/>
            <a:chOff x="5410080" y="2214720"/>
            <a:chExt cx="1711440" cy="673200"/>
          </a:xfrm>
        </p:grpSpPr>
        <p:sp>
          <p:nvSpPr>
            <p:cNvPr id="250" name=""/>
            <p:cNvSpPr/>
            <p:nvPr/>
          </p:nvSpPr>
          <p:spPr>
            <a:xfrm>
              <a:off x="5418000" y="2489040"/>
              <a:ext cx="16956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уток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0080" y="2214720"/>
              <a:ext cx="1711440" cy="27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л-во 7070 мм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>
            <a:off x="7121520" y="2798640"/>
            <a:ext cx="7524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949400" y="2798640"/>
            <a:ext cx="34704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10080" y="1138320"/>
            <a:ext cx="1711440" cy="682920"/>
            <a:chOff x="5410080" y="1138320"/>
            <a:chExt cx="1711440" cy="682920"/>
          </a:xfrm>
        </p:grpSpPr>
        <p:sp>
          <p:nvSpPr>
            <p:cNvPr id="255" name=""/>
            <p:cNvSpPr/>
            <p:nvPr/>
          </p:nvSpPr>
          <p:spPr>
            <a:xfrm>
              <a:off x="5418000" y="1422360"/>
              <a:ext cx="1695600" cy="398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уток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1138320"/>
              <a:ext cx="1711440" cy="27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Кол-во 9630 мм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H="1">
            <a:off x="7121520" y="174780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78720" y="1747800"/>
            <a:ext cx="0" cy="898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78720" y="2646360"/>
            <a:ext cx="3049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49400" y="264636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06600" y="1676520"/>
            <a:ext cx="0" cy="969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06600" y="1676520"/>
            <a:ext cx="30034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5646600" cy="1755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438280" y="388620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2971800"/>
            <a:ext cx="0" cy="914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981080" y="2971800"/>
            <a:ext cx="4572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полнительные функции работы со структурой изде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295280" y="130824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440" y="1441440"/>
            <a:ext cx="2782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чет полного и подетального составов с фильтрами по контексту, дате и серийному номе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0" descr=""/>
          <p:cNvPicPr/>
          <p:nvPr/>
        </p:nvPicPr>
        <p:blipFill>
          <a:blip r:embed="rId2"/>
          <a:stretch/>
        </p:blipFill>
        <p:spPr>
          <a:xfrm>
            <a:off x="299880" y="1441440"/>
            <a:ext cx="5034240" cy="4010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43080" y="5637240"/>
            <a:ext cx="840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лучение по изделию перечней материалов, покупных, стандартных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ечать специф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9880" y="62532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876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1883" t="20161" r="26559" b="24398"/>
          <a:stretch/>
        </p:blipFill>
        <p:spPr>
          <a:xfrm>
            <a:off x="2863800" y="801720"/>
            <a:ext cx="5823000" cy="4813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9160" y="5715000"/>
            <a:ext cx="9104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Т 2.108-68 форма 2а (+3 вариации на тему ГОСТ 2.108-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иационная Конструкторско-Технологическая спец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" y="1327320"/>
            <a:ext cx="25398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ормы 1 и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СТ 2.104-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69960" y="152280"/>
            <a:ext cx="8321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*    Управление характеристи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Рисунок%202" descr=""/>
          <p:cNvPicPr/>
          <p:nvPr/>
        </p:nvPicPr>
        <p:blipFill>
          <a:blip r:embed="rId2"/>
          <a:stretch/>
        </p:blipFill>
        <p:spPr>
          <a:xfrm>
            <a:off x="304920" y="1332000"/>
            <a:ext cx="5124240" cy="29541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%206" descr=""/>
          <p:cNvPicPr/>
          <p:nvPr/>
        </p:nvPicPr>
        <p:blipFill>
          <a:blip r:embed="rId3"/>
          <a:stretch/>
        </p:blipFill>
        <p:spPr>
          <a:xfrm>
            <a:off x="304920" y="4600440"/>
            <a:ext cx="7924680" cy="2206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638680" y="1136520"/>
            <a:ext cx="327672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Типы знач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характерис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Спис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Табли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характери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buClr>
                <a:srgbClr val="99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характерис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55720" y="152280"/>
            <a:ext cx="813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  Управление технологическими данны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114560" y="1746360"/>
            <a:ext cx="7135200" cy="828720"/>
            <a:chOff x="1114560" y="1746360"/>
            <a:chExt cx="7135200" cy="828720"/>
          </a:xfrm>
        </p:grpSpPr>
        <p:grpSp>
          <p:nvGrpSpPr>
            <p:cNvPr id="289" name=""/>
            <p:cNvGrpSpPr/>
            <p:nvPr/>
          </p:nvGrpSpPr>
          <p:grpSpPr>
            <a:xfrm>
              <a:off x="2842920" y="1746360"/>
              <a:ext cx="3677760" cy="207000"/>
              <a:chOff x="2842920" y="1746360"/>
              <a:chExt cx="3677760" cy="207000"/>
            </a:xfrm>
          </p:grpSpPr>
          <p:sp>
            <p:nvSpPr>
              <p:cNvPr id="290" name=""/>
              <p:cNvSpPr/>
              <p:nvPr/>
            </p:nvSpPr>
            <p:spPr>
              <a:xfrm>
                <a:off x="2842920" y="1746360"/>
                <a:ext cx="146880" cy="207000"/>
              </a:xfrm>
              <a:prstGeom prst="downArrow">
                <a:avLst>
                  <a:gd name="adj1" fmla="val 50000"/>
                  <a:gd name="adj2" fmla="val 35233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73800" y="1746360"/>
                <a:ext cx="146880" cy="207000"/>
              </a:xfrm>
              <a:prstGeom prst="downArrow">
                <a:avLst>
                  <a:gd name="adj1" fmla="val 50000"/>
                  <a:gd name="adj2" fmla="val 35233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70400" y="1746360"/>
                <a:ext cx="146880" cy="207000"/>
              </a:xfrm>
              <a:prstGeom prst="downArrow">
                <a:avLst>
                  <a:gd name="adj1" fmla="val 50000"/>
                  <a:gd name="adj2" fmla="val 35233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19400" y="1746360"/>
                <a:ext cx="147240" cy="207000"/>
              </a:xfrm>
              <a:prstGeom prst="downArrow">
                <a:avLst>
                  <a:gd name="adj1" fmla="val 50000"/>
                  <a:gd name="adj2" fmla="val 3514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702520" y="1967760"/>
              <a:ext cx="410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 Unicode MS"/>
                </a:rPr>
                <a:t>МАРШРУТНОЕ ПРЕДСТАВЛЕНИЕ ТЕХПРОЦЕСС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114560" y="2160720"/>
              <a:ext cx="7135200" cy="414360"/>
              <a:chOff x="1114560" y="2160720"/>
              <a:chExt cx="7135200" cy="414360"/>
            </a:xfrm>
          </p:grpSpPr>
          <p:sp>
            <p:nvSpPr>
              <p:cNvPr id="296" name=""/>
              <p:cNvSpPr/>
              <p:nvPr/>
            </p:nvSpPr>
            <p:spPr>
              <a:xfrm>
                <a:off x="1114560" y="2160720"/>
                <a:ext cx="1838880" cy="414360"/>
              </a:xfrm>
              <a:custGeom>
                <a:avLst/>
                <a:gdLst>
                  <a:gd name="textAreaLeft" fmla="*/ 195480 w 1838880"/>
                  <a:gd name="textAreaRight" fmla="*/ 1643400 w 1838880"/>
                  <a:gd name="textAreaTop" fmla="*/ 70200 h 414360"/>
                  <a:gd name="textAreaBottom" fmla="*/ 344160 h 41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664"/>
                    </a:moveTo>
                    <a:lnTo>
                      <a:pt x="18121" y="3664"/>
                    </a:lnTo>
                    <a:lnTo>
                      <a:pt x="18121" y="0"/>
                    </a:lnTo>
                    <a:lnTo>
                      <a:pt x="21600" y="10800"/>
                    </a:lnTo>
                    <a:lnTo>
                      <a:pt x="18121" y="21600"/>
                    </a:lnTo>
                    <a:lnTo>
                      <a:pt x="18121" y="17936"/>
                    </a:lnTo>
                    <a:lnTo>
                      <a:pt x="0" y="17936"/>
                    </a:lnTo>
                    <a:lnTo>
                      <a:pt x="2299" y="10800"/>
                    </a:lnTo>
                    <a:lnTo>
                      <a:pt x="0" y="366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880000" y="2160720"/>
                <a:ext cx="1838880" cy="414360"/>
              </a:xfrm>
              <a:custGeom>
                <a:avLst/>
                <a:gdLst>
                  <a:gd name="textAreaLeft" fmla="*/ 195480 w 1838880"/>
                  <a:gd name="textAreaRight" fmla="*/ 1643400 w 1838880"/>
                  <a:gd name="textAreaTop" fmla="*/ 70200 h 414360"/>
                  <a:gd name="textAreaBottom" fmla="*/ 344160 h 41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664"/>
                    </a:moveTo>
                    <a:lnTo>
                      <a:pt x="18121" y="3664"/>
                    </a:lnTo>
                    <a:lnTo>
                      <a:pt x="18121" y="0"/>
                    </a:lnTo>
                    <a:lnTo>
                      <a:pt x="21600" y="10800"/>
                    </a:lnTo>
                    <a:lnTo>
                      <a:pt x="18121" y="21600"/>
                    </a:lnTo>
                    <a:lnTo>
                      <a:pt x="18121" y="17936"/>
                    </a:lnTo>
                    <a:lnTo>
                      <a:pt x="0" y="17936"/>
                    </a:lnTo>
                    <a:lnTo>
                      <a:pt x="2299" y="10800"/>
                    </a:lnTo>
                    <a:lnTo>
                      <a:pt x="0" y="366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45440" y="2160720"/>
                <a:ext cx="1838880" cy="414360"/>
              </a:xfrm>
              <a:custGeom>
                <a:avLst/>
                <a:gdLst>
                  <a:gd name="textAreaLeft" fmla="*/ 195480 w 1838880"/>
                  <a:gd name="textAreaRight" fmla="*/ 1643400 w 1838880"/>
                  <a:gd name="textAreaTop" fmla="*/ 70200 h 414360"/>
                  <a:gd name="textAreaBottom" fmla="*/ 344160 h 41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664"/>
                    </a:moveTo>
                    <a:lnTo>
                      <a:pt x="18121" y="3664"/>
                    </a:lnTo>
                    <a:lnTo>
                      <a:pt x="18121" y="0"/>
                    </a:lnTo>
                    <a:lnTo>
                      <a:pt x="21600" y="10800"/>
                    </a:lnTo>
                    <a:lnTo>
                      <a:pt x="18121" y="21600"/>
                    </a:lnTo>
                    <a:lnTo>
                      <a:pt x="18121" y="17936"/>
                    </a:lnTo>
                    <a:lnTo>
                      <a:pt x="0" y="17936"/>
                    </a:lnTo>
                    <a:lnTo>
                      <a:pt x="2299" y="10800"/>
                    </a:lnTo>
                    <a:lnTo>
                      <a:pt x="0" y="366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10880" y="2160720"/>
                <a:ext cx="1838880" cy="414360"/>
              </a:xfrm>
              <a:custGeom>
                <a:avLst/>
                <a:gdLst>
                  <a:gd name="textAreaLeft" fmla="*/ 195480 w 1838880"/>
                  <a:gd name="textAreaRight" fmla="*/ 1643400 w 1838880"/>
                  <a:gd name="textAreaTop" fmla="*/ 70200 h 414360"/>
                  <a:gd name="textAreaBottom" fmla="*/ 344160 h 41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3664"/>
                    </a:moveTo>
                    <a:lnTo>
                      <a:pt x="18121" y="3664"/>
                    </a:lnTo>
                    <a:lnTo>
                      <a:pt x="18121" y="0"/>
                    </a:lnTo>
                    <a:lnTo>
                      <a:pt x="21600" y="10800"/>
                    </a:lnTo>
                    <a:lnTo>
                      <a:pt x="18121" y="21600"/>
                    </a:lnTo>
                    <a:lnTo>
                      <a:pt x="18121" y="17936"/>
                    </a:lnTo>
                    <a:lnTo>
                      <a:pt x="0" y="17936"/>
                    </a:lnTo>
                    <a:lnTo>
                      <a:pt x="2299" y="10800"/>
                    </a:lnTo>
                    <a:lnTo>
                      <a:pt x="0" y="3664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18720" y="2284200"/>
                <a:ext cx="43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ЦЕХ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84160" y="2284200"/>
                <a:ext cx="43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ЦЕХ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348160" y="2284200"/>
                <a:ext cx="43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ЦЕХ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33680" y="2284200"/>
                <a:ext cx="47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ЦЕХ 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2033640" y="1263600"/>
            <a:ext cx="5297400" cy="552600"/>
          </a:xfrm>
          <a:custGeom>
            <a:avLst/>
            <a:gdLst>
              <a:gd name="textAreaLeft" fmla="*/ 827640 w 5297400"/>
              <a:gd name="textAreaRight" fmla="*/ 4990320 w 5297400"/>
              <a:gd name="textAreaTop" fmla="*/ 116280 h 552600"/>
              <a:gd name="textAreaBottom" fmla="*/ 436320 h 552600"/>
            </a:gdLst>
            <a:ahLst/>
            <a:rect l="textAreaLeft" t="textAreaTop" r="textAreaRight" b="textAreaBottom"/>
            <a:pathLst>
              <a:path w="21600" h="21600">
                <a:moveTo>
                  <a:pt x="3375" y="4556"/>
                </a:moveTo>
                <a:lnTo>
                  <a:pt x="19434" y="4556"/>
                </a:lnTo>
                <a:lnTo>
                  <a:pt x="19434" y="0"/>
                </a:lnTo>
                <a:lnTo>
                  <a:pt x="21600" y="10800"/>
                </a:lnTo>
                <a:lnTo>
                  <a:pt x="19434" y="21600"/>
                </a:lnTo>
                <a:lnTo>
                  <a:pt x="19434" y="17044"/>
                </a:lnTo>
                <a:lnTo>
                  <a:pt x="3375" y="17044"/>
                </a:lnTo>
                <a:close/>
              </a:path>
              <a:path w="21600" h="21600">
                <a:moveTo>
                  <a:pt x="0" y="4556"/>
                </a:moveTo>
                <a:lnTo>
                  <a:pt x="675" y="4556"/>
                </a:lnTo>
                <a:lnTo>
                  <a:pt x="675" y="17044"/>
                </a:lnTo>
                <a:lnTo>
                  <a:pt x="0" y="17044"/>
                </a:lnTo>
                <a:close/>
              </a:path>
              <a:path w="21600" h="21600">
                <a:moveTo>
                  <a:pt x="1350" y="4556"/>
                </a:moveTo>
                <a:lnTo>
                  <a:pt x="2700" y="4556"/>
                </a:lnTo>
                <a:lnTo>
                  <a:pt x="2700" y="17044"/>
                </a:lnTo>
                <a:lnTo>
                  <a:pt x="1350" y="170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55840" y="1401840"/>
            <a:ext cx="29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ТЕХНОЛОГИЧЕСКИЙ ПРОЦЕ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600" y="2575080"/>
            <a:ext cx="8313120" cy="482040"/>
            <a:chOff x="525600" y="2575080"/>
            <a:chExt cx="8313120" cy="482040"/>
          </a:xfrm>
        </p:grpSpPr>
        <p:grpSp>
          <p:nvGrpSpPr>
            <p:cNvPr id="307" name=""/>
            <p:cNvGrpSpPr/>
            <p:nvPr/>
          </p:nvGrpSpPr>
          <p:grpSpPr>
            <a:xfrm>
              <a:off x="2842920" y="2575080"/>
              <a:ext cx="3678120" cy="206640"/>
              <a:chOff x="2842920" y="2575080"/>
              <a:chExt cx="3678120" cy="206640"/>
            </a:xfrm>
          </p:grpSpPr>
          <p:sp>
            <p:nvSpPr>
              <p:cNvPr id="308" name=""/>
              <p:cNvSpPr/>
              <p:nvPr/>
            </p:nvSpPr>
            <p:spPr>
              <a:xfrm>
                <a:off x="2842920" y="2575080"/>
                <a:ext cx="146880" cy="206640"/>
              </a:xfrm>
              <a:prstGeom prst="downArrow">
                <a:avLst>
                  <a:gd name="adj1" fmla="val 50000"/>
                  <a:gd name="adj2" fmla="val 3517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4160" y="2575080"/>
                <a:ext cx="146880" cy="206640"/>
              </a:xfrm>
              <a:prstGeom prst="downArrow">
                <a:avLst>
                  <a:gd name="adj1" fmla="val 50000"/>
                  <a:gd name="adj2" fmla="val 3517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0760" y="2575080"/>
                <a:ext cx="146880" cy="206640"/>
              </a:xfrm>
              <a:prstGeom prst="downArrow">
                <a:avLst>
                  <a:gd name="adj1" fmla="val 50000"/>
                  <a:gd name="adj2" fmla="val 35172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9760" y="2575080"/>
                <a:ext cx="147240" cy="206640"/>
              </a:xfrm>
              <a:prstGeom prst="downArrow">
                <a:avLst>
                  <a:gd name="adj1" fmla="val 50000"/>
                  <a:gd name="adj2" fmla="val 3508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25600" y="2781720"/>
              <a:ext cx="8313120" cy="275400"/>
              <a:chOff x="525600" y="2781720"/>
              <a:chExt cx="8313120" cy="2754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25600" y="2781720"/>
                <a:ext cx="1250280" cy="275400"/>
                <a:chOff x="525600" y="2781720"/>
                <a:chExt cx="1250280" cy="275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25600" y="2781720"/>
                  <a:ext cx="1250280" cy="275400"/>
                </a:xfrm>
                <a:custGeom>
                  <a:avLst/>
                  <a:gdLst>
                    <a:gd name="textAreaLeft" fmla="*/ 132840 w 1250280"/>
                    <a:gd name="textAreaRight" fmla="*/ 1117440 w 125028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4016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702800" y="2781720"/>
                <a:ext cx="1250280" cy="275400"/>
                <a:chOff x="1702800" y="2781720"/>
                <a:chExt cx="1250280" cy="275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702800" y="2781720"/>
                  <a:ext cx="1250280" cy="275400"/>
                </a:xfrm>
                <a:custGeom>
                  <a:avLst/>
                  <a:gdLst>
                    <a:gd name="textAreaLeft" fmla="*/ 132840 w 1250280"/>
                    <a:gd name="textAreaRight" fmla="*/ 1117440 w 125028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91736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410880" y="2781720"/>
                <a:ext cx="1250640" cy="275400"/>
                <a:chOff x="6410880" y="2781720"/>
                <a:chExt cx="1250640" cy="275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410880" y="2781720"/>
                  <a:ext cx="1250640" cy="275400"/>
                </a:xfrm>
                <a:custGeom>
                  <a:avLst/>
                  <a:gdLst>
                    <a:gd name="textAreaLeft" fmla="*/ 132840 w 1250640"/>
                    <a:gd name="textAreaRight" fmla="*/ 1117800 w 125064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2580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234040" y="2781720"/>
                <a:ext cx="1250280" cy="275400"/>
                <a:chOff x="5234040" y="2781720"/>
                <a:chExt cx="1250280" cy="275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234040" y="2781720"/>
                  <a:ext cx="1250280" cy="275400"/>
                </a:xfrm>
                <a:custGeom>
                  <a:avLst/>
                  <a:gdLst>
                    <a:gd name="textAreaLeft" fmla="*/ 132840 w 1250280"/>
                    <a:gd name="textAreaRight" fmla="*/ 1117440 w 125028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44788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056840" y="2781720"/>
                <a:ext cx="1250280" cy="275400"/>
                <a:chOff x="4056840" y="2781720"/>
                <a:chExt cx="1250280" cy="2754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056840" y="2781720"/>
                  <a:ext cx="1250280" cy="275400"/>
                </a:xfrm>
                <a:custGeom>
                  <a:avLst/>
                  <a:gdLst>
                    <a:gd name="textAreaLeft" fmla="*/ 132840 w 1250280"/>
                    <a:gd name="textAreaRight" fmla="*/ 1117440 w 125028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27140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879640" y="2781720"/>
                <a:ext cx="1250640" cy="275400"/>
                <a:chOff x="2879640" y="2781720"/>
                <a:chExt cx="1250640" cy="275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879640" y="2781720"/>
                  <a:ext cx="1250640" cy="275400"/>
                </a:xfrm>
                <a:custGeom>
                  <a:avLst/>
                  <a:gdLst>
                    <a:gd name="textAreaLeft" fmla="*/ 132840 w 1250640"/>
                    <a:gd name="textAreaRight" fmla="*/ 1117800 w 125064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093840" y="2851920"/>
                  <a:ext cx="8236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88440" y="2781720"/>
                <a:ext cx="1250280" cy="275400"/>
                <a:chOff x="7588440" y="2781720"/>
                <a:chExt cx="1250280" cy="275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88440" y="2781720"/>
                  <a:ext cx="1250280" cy="275400"/>
                </a:xfrm>
                <a:custGeom>
                  <a:avLst/>
                  <a:gdLst>
                    <a:gd name="textAreaLeft" fmla="*/ 132840 w 1250280"/>
                    <a:gd name="textAreaRight" fmla="*/ 1117440 w 1250280"/>
                    <a:gd name="textAreaTop" fmla="*/ 46440 h 275400"/>
                    <a:gd name="textAreaBottom" fmla="*/ 228960 h 275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3664"/>
                      </a:moveTo>
                      <a:lnTo>
                        <a:pt x="18121" y="3664"/>
                      </a:lnTo>
                      <a:lnTo>
                        <a:pt x="18121" y="0"/>
                      </a:lnTo>
                      <a:lnTo>
                        <a:pt x="21600" y="10800"/>
                      </a:lnTo>
                      <a:lnTo>
                        <a:pt x="18121" y="21600"/>
                      </a:lnTo>
                      <a:lnTo>
                        <a:pt x="18121" y="17936"/>
                      </a:lnTo>
                      <a:lnTo>
                        <a:pt x="0" y="17936"/>
                      </a:lnTo>
                      <a:lnTo>
                        <a:pt x="2299" y="10800"/>
                      </a:lnTo>
                      <a:lnTo>
                        <a:pt x="0" y="366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786080" y="2851920"/>
                  <a:ext cx="8604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Unicode MS"/>
                    </a:rPr>
                    <a:t>ОПЕРАЦИЯ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Unicode MS"/>
                    </a:rPr>
                    <a:t>…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847440" y="3057480"/>
            <a:ext cx="2509920" cy="1189080"/>
            <a:chOff x="847440" y="3057480"/>
            <a:chExt cx="2509920" cy="1189080"/>
          </a:xfrm>
        </p:grpSpPr>
        <p:grpSp>
          <p:nvGrpSpPr>
            <p:cNvPr id="335" name=""/>
            <p:cNvGrpSpPr/>
            <p:nvPr/>
          </p:nvGrpSpPr>
          <p:grpSpPr>
            <a:xfrm>
              <a:off x="847440" y="3195000"/>
              <a:ext cx="1014120" cy="1051560"/>
              <a:chOff x="847440" y="3195000"/>
              <a:chExt cx="1014120" cy="1051560"/>
            </a:xfrm>
          </p:grpSpPr>
          <p:pic>
            <p:nvPicPr>
              <p:cNvPr id="336" name="j0150663" descr=""/>
              <p:cNvPicPr/>
              <p:nvPr/>
            </p:nvPicPr>
            <p:blipFill>
              <a:blip r:embed="rId2"/>
              <a:stretch/>
            </p:blipFill>
            <p:spPr>
              <a:xfrm>
                <a:off x="891000" y="3195000"/>
                <a:ext cx="774720" cy="81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847440" y="4063680"/>
                <a:ext cx="1014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812960" y="3057480"/>
              <a:ext cx="1544400" cy="413280"/>
              <a:chOff x="1812960" y="3057480"/>
              <a:chExt cx="1544400" cy="413280"/>
            </a:xfrm>
          </p:grpSpPr>
          <p:sp>
            <p:nvSpPr>
              <p:cNvPr id="339" name=""/>
              <p:cNvSpPr/>
              <p:nvPr/>
            </p:nvSpPr>
            <p:spPr>
              <a:xfrm>
                <a:off x="1812960" y="3470760"/>
                <a:ext cx="15444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57360" y="3057480"/>
                <a:ext cx="0" cy="41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12960" y="3608640"/>
              <a:ext cx="882360" cy="413280"/>
              <a:chOff x="1812960" y="3608640"/>
              <a:chExt cx="882360" cy="413280"/>
            </a:xfrm>
          </p:grpSpPr>
          <p:sp>
            <p:nvSpPr>
              <p:cNvPr id="342" name=""/>
              <p:cNvSpPr/>
              <p:nvPr/>
            </p:nvSpPr>
            <p:spPr>
              <a:xfrm>
                <a:off x="1812960" y="3608640"/>
                <a:ext cx="8823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95320" y="3608640"/>
                <a:ext cx="0" cy="41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006600" y="3057480"/>
            <a:ext cx="2486160" cy="1189080"/>
            <a:chOff x="6006600" y="3057480"/>
            <a:chExt cx="2486160" cy="1189080"/>
          </a:xfrm>
        </p:grpSpPr>
        <p:grpSp>
          <p:nvGrpSpPr>
            <p:cNvPr id="345" name=""/>
            <p:cNvGrpSpPr/>
            <p:nvPr/>
          </p:nvGrpSpPr>
          <p:grpSpPr>
            <a:xfrm>
              <a:off x="7551720" y="3168000"/>
              <a:ext cx="941040" cy="1078560"/>
              <a:chOff x="7551720" y="3168000"/>
              <a:chExt cx="941040" cy="1078560"/>
            </a:xfrm>
          </p:grpSpPr>
          <p:sp>
            <p:nvSpPr>
              <p:cNvPr id="346" name=""/>
              <p:cNvSpPr/>
              <p:nvPr/>
            </p:nvSpPr>
            <p:spPr>
              <a:xfrm>
                <a:off x="7720200" y="4063680"/>
                <a:ext cx="717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СТАТУС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7" name="BS00688_" descr=""/>
              <p:cNvPicPr/>
              <p:nvPr/>
            </p:nvPicPr>
            <p:blipFill>
              <a:blip r:embed="rId3"/>
              <a:stretch/>
            </p:blipFill>
            <p:spPr>
              <a:xfrm>
                <a:off x="7551720" y="3168000"/>
                <a:ext cx="941040" cy="81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8" name=""/>
            <p:cNvGrpSpPr/>
            <p:nvPr/>
          </p:nvGrpSpPr>
          <p:grpSpPr>
            <a:xfrm>
              <a:off x="6006600" y="3057480"/>
              <a:ext cx="1544760" cy="413280"/>
              <a:chOff x="6006600" y="3057480"/>
              <a:chExt cx="1544760" cy="41328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6006600" y="3470760"/>
                <a:ext cx="154476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006600" y="3057480"/>
                <a:ext cx="0" cy="41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669000" y="3608640"/>
              <a:ext cx="882720" cy="413280"/>
              <a:chOff x="6669000" y="3608640"/>
              <a:chExt cx="882720" cy="41328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6669000" y="3608640"/>
                <a:ext cx="88272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69000" y="3608640"/>
                <a:ext cx="0" cy="413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1956960" y="3057480"/>
            <a:ext cx="5300640" cy="3654000"/>
            <a:chOff x="1956960" y="3057480"/>
            <a:chExt cx="5300640" cy="3654000"/>
          </a:xfrm>
        </p:grpSpPr>
        <p:grpSp>
          <p:nvGrpSpPr>
            <p:cNvPr id="355" name=""/>
            <p:cNvGrpSpPr/>
            <p:nvPr/>
          </p:nvGrpSpPr>
          <p:grpSpPr>
            <a:xfrm>
              <a:off x="4877280" y="4284000"/>
              <a:ext cx="1005120" cy="1038600"/>
              <a:chOff x="4877280" y="4284000"/>
              <a:chExt cx="1005120" cy="1038600"/>
            </a:xfrm>
          </p:grpSpPr>
          <p:pic>
            <p:nvPicPr>
              <p:cNvPr id="356" name="IN00483_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7280" y="4284000"/>
                <a:ext cx="873720" cy="8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4880520" y="5139720"/>
                <a:ext cx="1001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МАТЕРИАЛ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627720" y="4146480"/>
              <a:ext cx="912240" cy="1176480"/>
              <a:chOff x="3627720" y="4146480"/>
              <a:chExt cx="912240" cy="11764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3627720" y="4146480"/>
                <a:ext cx="796680" cy="813960"/>
                <a:chOff x="3627720" y="4146480"/>
                <a:chExt cx="796680" cy="813960"/>
              </a:xfrm>
            </p:grpSpPr>
            <p:sp>
              <p:nvSpPr>
                <p:cNvPr id="360" name="Gear"/>
                <p:cNvSpPr/>
                <p:nvPr/>
              </p:nvSpPr>
              <p:spPr>
                <a:xfrm>
                  <a:off x="4069440" y="4146480"/>
                  <a:ext cx="354960" cy="3729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27720" y="4300200"/>
                  <a:ext cx="424440" cy="4460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903120" y="4464720"/>
                  <a:ext cx="471960" cy="4957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3801600" y="5140080"/>
                <a:ext cx="73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ОСНАТ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425120" y="5594400"/>
              <a:ext cx="867600" cy="1038600"/>
              <a:chOff x="4425120" y="5594400"/>
              <a:chExt cx="867600" cy="1038600"/>
            </a:xfrm>
          </p:grpSpPr>
          <p:pic>
            <p:nvPicPr>
              <p:cNvPr id="365" name="PE02002_" descr=""/>
              <p:cNvPicPr/>
              <p:nvPr/>
            </p:nvPicPr>
            <p:blipFill>
              <a:blip r:embed="rId5"/>
              <a:stretch/>
            </p:blipFill>
            <p:spPr>
              <a:xfrm>
                <a:off x="4425120" y="5594400"/>
                <a:ext cx="867600" cy="8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"/>
              <p:cNvSpPr/>
              <p:nvPr/>
            </p:nvSpPr>
            <p:spPr>
              <a:xfrm>
                <a:off x="4555080" y="6450120"/>
                <a:ext cx="51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ЛЮД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99240" y="5594400"/>
              <a:ext cx="1420920" cy="1038600"/>
              <a:chOff x="5799240" y="5594400"/>
              <a:chExt cx="1420920" cy="1038600"/>
            </a:xfrm>
          </p:grpSpPr>
          <p:pic>
            <p:nvPicPr>
              <p:cNvPr id="368" name="BD04924_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6960" y="5594400"/>
                <a:ext cx="643680" cy="8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5799240" y="6450120"/>
                <a:ext cx="1420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ЭЛЕКТРОЭНЕРГ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290680" y="4284000"/>
              <a:ext cx="1311480" cy="1038600"/>
              <a:chOff x="2290680" y="4284000"/>
              <a:chExt cx="1311480" cy="1038600"/>
            </a:xfrm>
          </p:grpSpPr>
          <p:sp>
            <p:nvSpPr>
              <p:cNvPr id="371" name=""/>
              <p:cNvSpPr/>
              <p:nvPr/>
            </p:nvSpPr>
            <p:spPr>
              <a:xfrm>
                <a:off x="2290680" y="51397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j0209616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7080" y="4284000"/>
                <a:ext cx="927000" cy="81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3" name=""/>
            <p:cNvGrpSpPr/>
            <p:nvPr/>
          </p:nvGrpSpPr>
          <p:grpSpPr>
            <a:xfrm>
              <a:off x="6117480" y="4314240"/>
              <a:ext cx="1031400" cy="1008360"/>
              <a:chOff x="6117480" y="4314240"/>
              <a:chExt cx="1031400" cy="1008360"/>
            </a:xfrm>
          </p:grpSpPr>
          <p:sp>
            <p:nvSpPr>
              <p:cNvPr id="374" name=""/>
              <p:cNvSpPr/>
              <p:nvPr/>
            </p:nvSpPr>
            <p:spPr>
              <a:xfrm>
                <a:off x="6350400" y="513972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ВРЕМ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5" name="BS01054_" descr=""/>
              <p:cNvPicPr/>
              <p:nvPr/>
            </p:nvPicPr>
            <p:blipFill>
              <a:blip r:embed="rId8"/>
              <a:stretch/>
            </p:blipFill>
            <p:spPr>
              <a:xfrm>
                <a:off x="6117480" y="4314240"/>
                <a:ext cx="1031400" cy="81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6" name=""/>
            <p:cNvGrpSpPr/>
            <p:nvPr/>
          </p:nvGrpSpPr>
          <p:grpSpPr>
            <a:xfrm>
              <a:off x="2217600" y="5457960"/>
              <a:ext cx="2024640" cy="1192320"/>
              <a:chOff x="2217600" y="5457960"/>
              <a:chExt cx="2024640" cy="1192320"/>
            </a:xfrm>
          </p:grpSpPr>
          <p:pic>
            <p:nvPicPr>
              <p:cNvPr id="377" name="IN00676_" descr=""/>
              <p:cNvPicPr/>
              <p:nvPr/>
            </p:nvPicPr>
            <p:blipFill>
              <a:blip r:embed="rId9"/>
              <a:stretch/>
            </p:blipFill>
            <p:spPr>
              <a:xfrm>
                <a:off x="2511720" y="5457960"/>
                <a:ext cx="1179720" cy="81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2217600" y="6284880"/>
                <a:ext cx="20246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ДЕТАЛИ ДЛ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 Unicode MS"/>
                  </a:rPr>
                  <a:t>СБОРОЧНЫХ ОПЕРАЦ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2180520" y="4022640"/>
              <a:ext cx="5077080" cy="26888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66160" y="3815640"/>
              <a:ext cx="235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 Unicode MS"/>
                </a:rPr>
                <a:t>НОРМЫ РАСХОДОВ РЕСУРС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020480" y="3057480"/>
              <a:ext cx="0" cy="758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682520" y="3057480"/>
              <a:ext cx="0" cy="758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363280" y="3057480"/>
              <a:ext cx="0" cy="758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1384200" y="530820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00"/>
                  </a:solidFill>
                  <a:latin typeface="Times New Roman"/>
                </a:rPr>
                <a:t>ТИПЫ РЕСУРС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 rot="16200000">
            <a:off x="-285840" y="2063880"/>
            <a:ext cx="137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ТИП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редставление техпроцесса в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9880" y="71136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2876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0" descr=""/>
          <p:cNvPicPr/>
          <p:nvPr/>
        </p:nvPicPr>
        <p:blipFill>
          <a:blip r:embed="rId1"/>
          <a:stretch/>
        </p:blipFill>
        <p:spPr>
          <a:xfrm>
            <a:off x="299880" y="903240"/>
            <a:ext cx="5235840" cy="2800440"/>
          </a:xfrm>
          <a:prstGeom prst="rect">
            <a:avLst/>
          </a:prstGeom>
          <a:ln w="0">
            <a:noFill/>
          </a:ln>
        </p:spPr>
      </p:pic>
      <p:pic>
        <p:nvPicPr>
          <p:cNvPr id="390" name="0" descr=""/>
          <p:cNvPicPr/>
          <p:nvPr/>
        </p:nvPicPr>
        <p:blipFill>
          <a:blip r:embed="rId2"/>
          <a:stretch/>
        </p:blipFill>
        <p:spPr>
          <a:xfrm>
            <a:off x="3133800" y="3981600"/>
            <a:ext cx="5668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6920" y="0"/>
            <a:ext cx="8534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Редактор техпроцес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2876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4" descr=""/>
          <p:cNvPicPr/>
          <p:nvPr/>
        </p:nvPicPr>
        <p:blipFill>
          <a:blip r:embed="rId1"/>
          <a:stretch/>
        </p:blipFill>
        <p:spPr>
          <a:xfrm>
            <a:off x="271440" y="611280"/>
            <a:ext cx="8483760" cy="59547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4480" y="1174680"/>
            <a:ext cx="8821440" cy="5000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922400"/>
            <a:ext cx="6705360" cy="474840"/>
          </a:xfrm>
          <a:prstGeom prst="rect">
            <a:avLst/>
          </a:prstGeom>
          <a:solidFill>
            <a:srgbClr val="2390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правление прое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8280" y="63000"/>
            <a:ext cx="77137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ункции предприя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2_340_&amp;white" descr=""/>
          <p:cNvPicPr/>
          <p:nvPr/>
        </p:nvPicPr>
        <p:blipFill>
          <a:blip r:embed="rId1"/>
          <a:stretch/>
        </p:blipFill>
        <p:spPr>
          <a:xfrm>
            <a:off x="76320" y="6336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25360" y="774720"/>
            <a:ext cx="507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498760"/>
            <a:ext cx="6705360" cy="474480"/>
          </a:xfrm>
          <a:prstGeom prst="rect">
            <a:avLst/>
          </a:prstGeom>
          <a:solidFill>
            <a:srgbClr val="29a5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нструкторская подгот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75120"/>
            <a:ext cx="6705360" cy="474480"/>
          </a:xfrm>
          <a:prstGeom prst="rect">
            <a:avLst/>
          </a:prstGeom>
          <a:solidFill>
            <a:srgbClr val="c7c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хнологическая подгот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651120"/>
            <a:ext cx="6705360" cy="4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анирование произв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229280"/>
            <a:ext cx="6705360" cy="474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равление производст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5280"/>
            <a:ext cx="6705360" cy="474840"/>
          </a:xfrm>
          <a:prstGeom prst="rect">
            <a:avLst/>
          </a:prstGeom>
          <a:solidFill>
            <a:srgbClr val="cc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правление потокам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81640"/>
            <a:ext cx="6705360" cy="4744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правление качест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959440"/>
            <a:ext cx="6705360" cy="4748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вождение в эксплуа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67400" y="977760"/>
            <a:ext cx="2524320" cy="5778720"/>
          </a:xfrm>
          <a:prstGeom prst="can">
            <a:avLst>
              <a:gd name="adj" fmla="val 14726"/>
            </a:avLst>
          </a:prstGeom>
          <a:solidFill>
            <a:srgbClr val="0000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5601960" y="3298320"/>
            <a:ext cx="44658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Данные об издел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7400" y="1019160"/>
            <a:ext cx="25243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3080" y="24768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Редактор техпроцес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720" y="1352520"/>
            <a:ext cx="848052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ариантные техпроцес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спользование справоч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асчет времени оп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вязь документов с переходами и операциями  (эскизы, УП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спользование версий техпроцессов при проведении измен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Формирование отче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280" y="11048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Расчет необходим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9880" y="71136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2876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0" descr=""/>
          <p:cNvPicPr/>
          <p:nvPr/>
        </p:nvPicPr>
        <p:blipFill>
          <a:blip r:embed="rId1"/>
          <a:stretch/>
        </p:blipFill>
        <p:spPr>
          <a:xfrm>
            <a:off x="762120" y="928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Отчеты по техпроцес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3080" y="611280"/>
            <a:ext cx="863892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1066680"/>
            <a:ext cx="82962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домость оснастки (в 2-х варианта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дом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домость матери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рта измер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омплектовочн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рта эски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аршрутная карта (в 2-х варианта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ерационная карта для сборочных опе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ерационная карта для контрольных опе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хнологический па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3080" y="24768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Отчеты по техпроцес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80" y="1424160"/>
            <a:ext cx="85726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лучаемая в виде отчета технологическая документация может бы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7280" y="11048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3080" y="2728800"/>
            <a:ext cx="86389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динена в один фай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крыта парол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печатана на любом принте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84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штабирование по лис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184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ий учет полей прин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образована 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DF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69960" y="152280"/>
            <a:ext cx="8321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менения в систем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32400" y="1263600"/>
            <a:ext cx="2676600" cy="480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Начало изме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08680" y="1744560"/>
            <a:ext cx="0" cy="3985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14760" y="4562640"/>
            <a:ext cx="2892600" cy="10951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Применение правила изме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(внесение измене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59480" y="6040440"/>
            <a:ext cx="2674800" cy="480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Конец изме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40440" y="5657760"/>
            <a:ext cx="0" cy="3985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86400" y="2109960"/>
            <a:ext cx="2676240" cy="68076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Создание правила изме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86400" y="3189240"/>
            <a:ext cx="2676240" cy="6811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Утверждение правила изме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62680" y="2790720"/>
            <a:ext cx="0" cy="3985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2680" y="3870360"/>
            <a:ext cx="0" cy="641160"/>
          </a:xfrm>
          <a:prstGeom prst="line">
            <a:avLst/>
          </a:prstGeom>
          <a:ln w="28440">
            <a:solidFill>
              <a:srgbClr val="66ff66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00920" y="3941640"/>
            <a:ext cx="273816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Times New Roman"/>
              </a:rPr>
              <a:t>Правило утвержд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59760" y="2425680"/>
            <a:ext cx="480960" cy="1139760"/>
          </a:xfrm>
          <a:custGeom>
            <a:avLst/>
            <a:gdLst/>
            <a:ahLst/>
            <a:rect l="l" t="t" r="r" b="b"/>
            <a:pathLst>
              <a:path w="399" h="1029">
                <a:moveTo>
                  <a:pt x="0" y="1029"/>
                </a:moveTo>
                <a:lnTo>
                  <a:pt x="399" y="1029"/>
                </a:lnTo>
                <a:lnTo>
                  <a:pt x="399" y="3"/>
                </a:lnTo>
                <a:lnTo>
                  <a:pt x="10" y="0"/>
                </a:lnTo>
              </a:path>
            </a:pathLst>
          </a:custGeom>
          <a:noFill/>
          <a:ln w="28440">
            <a:solidFill>
              <a:srgbClr val="ff6699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39040" y="2644920"/>
            <a:ext cx="15764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99"/>
                </a:solidFill>
                <a:latin typeface="Times New Roman"/>
              </a:rPr>
              <a:t>Правило не утвержд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200" y="2178000"/>
            <a:ext cx="3938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знес-проце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49000" y="152280"/>
            <a:ext cx="844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справочни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Рисунок%201" descr=""/>
          <p:cNvPicPr/>
          <p:nvPr/>
        </p:nvPicPr>
        <p:blipFill>
          <a:blip r:embed="rId2"/>
          <a:stretch/>
        </p:blipFill>
        <p:spPr>
          <a:xfrm>
            <a:off x="549360" y="1352520"/>
            <a:ext cx="6689520" cy="4384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59436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6200" y="152280"/>
            <a:ext cx="834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   УПРАВЛЕНИЕ СТАТУС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2" action="ppaction://hlinksldjump"/>
          </p:cNvPr>
          <p:cNvSpPr/>
          <p:nvPr/>
        </p:nvSpPr>
        <p:spPr>
          <a:xfrm>
            <a:off x="152280" y="1295280"/>
            <a:ext cx="5791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формация фиксируемая в статус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трудник, присвоивший стату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ль сотрудника при присвоении стат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та и время присвоения стату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лектронная цифровая под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rId3" action="ppaction://hlinksldjump"/>
          </p:cNvPr>
          <p:cNvSpPr/>
          <p:nvPr/>
        </p:nvSpPr>
        <p:spPr>
          <a:xfrm>
            <a:off x="5867280" y="1295280"/>
            <a:ext cx="3124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Утверждаемые объекты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дел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сия изде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знес - проц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685800" y="4572000"/>
          <a:ext cx="784872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572000"/>
                    <a:ext cx="7848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65080" y="152280"/>
            <a:ext cx="812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ДОСТУПОМ В СИСТЕМЕ P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5495760" y="1327320"/>
            <a:ext cx="3343320" cy="34383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87280" y="3998880"/>
            <a:ext cx="5095800" cy="2638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6168960" y="3554280"/>
            <a:ext cx="2670120" cy="3083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43080" y="1066680"/>
            <a:ext cx="829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7280" y="1327320"/>
            <a:ext cx="509580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деление сотрудников и пользова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ступ п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умолч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Шаблоны дост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редства коммуникации между сотрудни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447920" y="135576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0400" y="1817640"/>
            <a:ext cx="802656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Электронная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оч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отоки рабо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Напомина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мечания (форум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строенная электронная поч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сообщение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957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ы «единой»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160" y="1482840"/>
            <a:ext cx="4670280" cy="1485720"/>
          </a:xfrm>
          <a:prstGeom prst="rect">
            <a:avLst/>
          </a:prstGeom>
          <a:solidFill>
            <a:srgbClr val="d60093"/>
          </a:solidFill>
          <a:ln w="38160">
            <a:solidFill>
              <a:srgbClr val="0099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возможно обеспечить комфортную работу со всеми САП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3760" y="3587760"/>
            <a:ext cx="8686800" cy="520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ожнение процесса работы в сред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9000" y="4983120"/>
            <a:ext cx="3678120" cy="1625040"/>
          </a:xfrm>
          <a:prstGeom prst="rect">
            <a:avLst/>
          </a:prstGeom>
          <a:solidFill>
            <a:srgbClr val="009999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M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лько для проек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DM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х груп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0320" y="3032280"/>
            <a:ext cx="0" cy="441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6240" y="4983120"/>
            <a:ext cx="3552840" cy="1625040"/>
          </a:xfrm>
          <a:prstGeom prst="rect">
            <a:avLst/>
          </a:prstGeom>
          <a:solidFill>
            <a:srgbClr val="009999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M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олько как архи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DM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прият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3560" y="4324320"/>
            <a:ext cx="0" cy="441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6840" y="4324320"/>
            <a:ext cx="0" cy="441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59080" y="5521320"/>
            <a:ext cx="684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95720" y="589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32520" y="1482840"/>
            <a:ext cx="3848040" cy="1485720"/>
          </a:xfrm>
          <a:prstGeom prst="rect">
            <a:avLst/>
          </a:prstGeom>
          <a:solidFill>
            <a:srgbClr val="d60093"/>
          </a:solidFill>
          <a:ln w="38160">
            <a:solidFill>
              <a:srgbClr val="0099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ение «рабочих»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архивных»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6840" y="3032280"/>
            <a:ext cx="0" cy="441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6760" y="18108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одсистема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440" y="7430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12" descr=""/>
          <p:cNvPicPr/>
          <p:nvPr/>
        </p:nvPicPr>
        <p:blipFill>
          <a:blip r:embed="rId1"/>
          <a:stretch/>
        </p:blipFill>
        <p:spPr>
          <a:xfrm>
            <a:off x="433440" y="2266920"/>
            <a:ext cx="8534520" cy="3409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90440" y="1042920"/>
            <a:ext cx="41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ль исполните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онстру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онструкторский отд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ординатор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инокуров И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4480" y="1119240"/>
            <a:ext cx="4267080" cy="838080"/>
          </a:xfrm>
          <a:prstGeom prst="rect">
            <a:avLst/>
          </a:prstGeom>
          <a:noFill/>
          <a:ln w="25560">
            <a:solidFill>
              <a:srgbClr val="33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00480" y="1957320"/>
            <a:ext cx="12600" cy="412920"/>
          </a:xfrm>
          <a:prstGeom prst="line">
            <a:avLst/>
          </a:prstGeom>
          <a:ln w="38160">
            <a:solidFill>
              <a:srgbClr val="f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86480" y="5789520"/>
            <a:ext cx="43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ль исполните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лавный конструк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инокуров И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ординатор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86480" y="5865840"/>
            <a:ext cx="4343400" cy="838080"/>
          </a:xfrm>
          <a:prstGeom prst="rect">
            <a:avLst/>
          </a:prstGeom>
          <a:noFill/>
          <a:ln w="25560">
            <a:solidFill>
              <a:srgbClr val="33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67560" y="5340240"/>
            <a:ext cx="0" cy="525600"/>
          </a:xfrm>
          <a:prstGeom prst="line">
            <a:avLst/>
          </a:prstGeom>
          <a:ln w="38160">
            <a:solidFill>
              <a:srgbClr val="f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3840" y="1119240"/>
            <a:ext cx="4191120" cy="838080"/>
          </a:xfrm>
          <a:prstGeom prst="rect">
            <a:avLst/>
          </a:prstGeom>
          <a:noFill/>
          <a:ln w="25560">
            <a:solidFill>
              <a:srgbClr val="33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10520" y="1042920"/>
            <a:ext cx="40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ль исполнител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хноло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хнологический отд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ординатор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Кузнецова Г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49800" y="1969920"/>
            <a:ext cx="728640" cy="1016280"/>
          </a:xfrm>
          <a:custGeom>
            <a:avLst/>
            <a:gdLst/>
            <a:ahLst/>
            <a:rect l="l" t="t" r="r" b="b"/>
            <a:pathLst>
              <a:path w="459" h="590">
                <a:moveTo>
                  <a:pt x="459" y="0"/>
                </a:moveTo>
                <a:lnTo>
                  <a:pt x="457" y="326"/>
                </a:lnTo>
                <a:lnTo>
                  <a:pt x="0" y="326"/>
                </a:lnTo>
                <a:lnTo>
                  <a:pt x="3" y="590"/>
                </a:lnTo>
              </a:path>
            </a:pathLst>
          </a:custGeom>
          <a:noFill/>
          <a:ln w="38160">
            <a:solidFill>
              <a:srgbClr val="ff5f5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84840" y="240048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ладельцы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инокуров И.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5345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Работа с напомина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2040" y="7952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424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0500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напоминание" descr=""/>
          <p:cNvPicPr/>
          <p:nvPr/>
        </p:nvPicPr>
        <p:blipFill>
          <a:blip r:embed="rId1"/>
          <a:stretch/>
        </p:blipFill>
        <p:spPr>
          <a:xfrm>
            <a:off x="642960" y="3259080"/>
            <a:ext cx="3193920" cy="25923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60488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администрирование" descr=""/>
          <p:cNvPicPr/>
          <p:nvPr/>
        </p:nvPicPr>
        <p:blipFill>
          <a:blip r:embed="rId2"/>
          <a:stretch/>
        </p:blipFill>
        <p:spPr>
          <a:xfrm>
            <a:off x="642960" y="966960"/>
            <a:ext cx="5933880" cy="1780920"/>
          </a:xfrm>
          <a:prstGeom prst="rect">
            <a:avLst/>
          </a:prstGeom>
          <a:ln w="0">
            <a:noFill/>
          </a:ln>
        </p:spPr>
      </p:pic>
      <p:pic>
        <p:nvPicPr>
          <p:cNvPr id="473" name="свойства" descr=""/>
          <p:cNvPicPr/>
          <p:nvPr/>
        </p:nvPicPr>
        <p:blipFill>
          <a:blip r:embed="rId3"/>
          <a:stretch/>
        </p:blipFill>
        <p:spPr>
          <a:xfrm>
            <a:off x="4084560" y="2238480"/>
            <a:ext cx="44197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09240" y="158760"/>
            <a:ext cx="77295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ОДХОДЫ К УПРАВЛЕНИЮ ПРОЕ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19200" y="762120"/>
            <a:ext cx="7419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logo2_340_&amp;white" descr=""/>
          <p:cNvPicPr/>
          <p:nvPr/>
        </p:nvPicPr>
        <p:blipFill>
          <a:blip r:embed="rId1"/>
          <a:stretch/>
        </p:blipFill>
        <p:spPr>
          <a:xfrm>
            <a:off x="144360" y="103320"/>
            <a:ext cx="773280" cy="8744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12680" y="6261120"/>
            <a:ext cx="903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ecff"/>
                </a:solidFill>
                <a:latin typeface="Arial"/>
              </a:rPr>
              <a:t>НИЦ </a:t>
            </a:r>
            <a:r>
              <a:rPr b="1" i="1" lang="en-US" sz="2100" spc="-1" strike="noStrike">
                <a:solidFill>
                  <a:srgbClr val="ccecff"/>
                </a:solidFill>
                <a:latin typeface="Arial"/>
              </a:rPr>
              <a:t>CALS</a:t>
            </a:r>
            <a:r>
              <a:rPr b="1" i="1" lang="ru-RU" sz="2100" spc="-1" strike="noStrike">
                <a:solidFill>
                  <a:srgbClr val="ccecff"/>
                </a:solidFill>
                <a:latin typeface="Arial"/>
              </a:rPr>
              <a:t>-технологий «Прикладная логистика»    </a:t>
            </a:r>
            <a:r>
              <a:rPr b="1" i="1" lang="en-US" sz="2100" spc="-1" strike="noStrike">
                <a:solidFill>
                  <a:srgbClr val="ccecff"/>
                </a:solidFill>
                <a:latin typeface="Arial"/>
              </a:rPr>
              <a:t>www.cals.r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0200" y="6261120"/>
            <a:ext cx="8508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304920" y="1206360"/>
          <a:ext cx="8534160" cy="4861080"/>
        </p:xfrm>
        <a:graphic>
          <a:graphicData uri="http://schemas.openxmlformats.org/drawingml/2006/table">
            <a:tbl>
              <a:tblPr/>
              <a:tblGrid>
                <a:gridCol w="2133360"/>
                <a:gridCol w="3429000"/>
                <a:gridCol w="2971800"/>
              </a:tblGrid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лассическая 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D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Структура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ывается до начала выполнения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момент начала выполнения проекта может быть неизвест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Длительность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длительностей входящих в него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начается директив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Пересмотр ср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менение длительности работ приводит к изменению длительност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менение длительности работ не отражается длительност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Управление ресурс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ительность работ зависит от загруженности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груженность ресурсов не рассматр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99"/>
                          </a:solidFill>
                          <a:latin typeface="Times New Roman"/>
                        </a:rPr>
                        <a:t>Рабочие объе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рассматрив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юб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PS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проект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4648320"/>
            <a:ext cx="44956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тевая стру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рсии раб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ханизм фильт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74840" y="1371600"/>
            <a:ext cx="8135640" cy="32497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495680" y="3054240"/>
            <a:ext cx="41148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158760"/>
            <a:ext cx="7823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БАЗОВЫЕ ФУНКЦИИ ПО УПРАВЛЕНИЮ ПРОЕКТАМИ В P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19200" y="762120"/>
            <a:ext cx="7419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logo2_340_&amp;white" descr=""/>
          <p:cNvPicPr/>
          <p:nvPr/>
        </p:nvPicPr>
        <p:blipFill>
          <a:blip r:embed="rId1"/>
          <a:stretch/>
        </p:blipFill>
        <p:spPr>
          <a:xfrm>
            <a:off x="144360" y="103320"/>
            <a:ext cx="773280" cy="874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3406680" y="932040"/>
            <a:ext cx="5362560" cy="57625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724680" y="9493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арточ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44800" y="2835360"/>
            <a:ext cx="293760" cy="869760"/>
          </a:xfrm>
          <a:custGeom>
            <a:avLst/>
            <a:gdLst>
              <a:gd name="textAreaLeft" fmla="*/ 187560 w 293760"/>
              <a:gd name="textAreaRight" fmla="*/ 294120 w 293760"/>
              <a:gd name="textAreaTop" fmla="*/ 22680 h 869760"/>
              <a:gd name="textAreaBottom" fmla="*/ 847080 h 86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44800" y="3914640"/>
            <a:ext cx="293760" cy="660600"/>
          </a:xfrm>
          <a:custGeom>
            <a:avLst/>
            <a:gdLst>
              <a:gd name="textAreaLeft" fmla="*/ 187560 w 293760"/>
              <a:gd name="textAreaRight" fmla="*/ 294120 w 29376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44800" y="4768920"/>
            <a:ext cx="293760" cy="1244520"/>
          </a:xfrm>
          <a:custGeom>
            <a:avLst/>
            <a:gdLst>
              <a:gd name="textAreaLeft" fmla="*/ 187560 w 293760"/>
              <a:gd name="textAreaRight" fmla="*/ 294120 w 293760"/>
              <a:gd name="textAreaTop" fmla="*/ 32400 h 1244520"/>
              <a:gd name="textAreaBottom" fmla="*/ 1212120 h 12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2360" y="3035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ю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05080" y="3292560"/>
            <a:ext cx="1293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1640" y="40179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05080" y="4241880"/>
            <a:ext cx="1288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4520" y="237816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44800" y="2633760"/>
            <a:ext cx="343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2720" y="51451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удоем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63920" y="5396040"/>
            <a:ext cx="274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15640" y="158760"/>
            <a:ext cx="7823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БАЗОВЫЕ ФУНКЦИИ ПО УПРАВЛЕНИЮ ПРОЕКТАМИ В P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19200" y="762120"/>
            <a:ext cx="7419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logo2_340_&amp;white" descr=""/>
          <p:cNvPicPr/>
          <p:nvPr/>
        </p:nvPicPr>
        <p:blipFill>
          <a:blip r:embed="rId1"/>
          <a:stretch/>
        </p:blipFill>
        <p:spPr>
          <a:xfrm>
            <a:off x="144360" y="103320"/>
            <a:ext cx="773280" cy="8744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284040" y="3152880"/>
            <a:ext cx="8610840" cy="34401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 flipV="1">
            <a:off x="2576520" y="2962440"/>
            <a:ext cx="304920" cy="761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9960" y="2565360"/>
            <a:ext cx="41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1aa"/>
                </a:solidFill>
                <a:latin typeface="Arial"/>
              </a:rPr>
              <a:t>Не задана дата начала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6913440" y="2923920"/>
            <a:ext cx="1447920" cy="106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8520" y="932040"/>
            <a:ext cx="849636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тевая структура проек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аграммы Ганта с неполными дан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80280" y="256536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1aa"/>
                </a:solidFill>
                <a:latin typeface="Arial"/>
              </a:rPr>
              <a:t>Не задана дата окончания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04920" y="1143000"/>
            <a:ext cx="85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6304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БАЗОВЫЕ ФУНКЦИИ ПО УПРАВЛЕНИЮ ПРОЕКТАМИ В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792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33600" y="5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892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47840" y="-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907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538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" action="ppaction://hlinksldjump"/>
          </p:cNvPr>
          <p:cNvSpPr/>
          <p:nvPr/>
        </p:nvSpPr>
        <p:spPr>
          <a:xfrm>
            <a:off x="152280" y="43894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пересчет%20суммарных%20характеристик%20проекта" descr=""/>
          <p:cNvPicPr/>
          <p:nvPr/>
        </p:nvPicPr>
        <p:blipFill>
          <a:blip r:embed="rId2"/>
          <a:stretch/>
        </p:blipFill>
        <p:spPr>
          <a:xfrm>
            <a:off x="152280" y="919080"/>
            <a:ext cx="5562720" cy="2610000"/>
          </a:xfrm>
          <a:prstGeom prst="rect">
            <a:avLst/>
          </a:prstGeom>
          <a:ln w="0">
            <a:noFill/>
          </a:ln>
        </p:spPr>
      </p:pic>
      <p:pic>
        <p:nvPicPr>
          <p:cNvPr id="522" name="история%20изменений" descr=""/>
          <p:cNvPicPr/>
          <p:nvPr/>
        </p:nvPicPr>
        <p:blipFill>
          <a:blip r:embed="rId3"/>
          <a:stretch/>
        </p:blipFill>
        <p:spPr>
          <a:xfrm>
            <a:off x="4038480" y="4260960"/>
            <a:ext cx="4929480" cy="1530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84040" y="77616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7320" y="4260960"/>
            <a:ext cx="323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Хранение истор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менений 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ерсий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20640" y="1143000"/>
            <a:ext cx="299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Автоматическ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уммар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рудоемк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 подчинен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4040" y="107280"/>
            <a:ext cx="86392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ханизм фильт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4792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52892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47840" y="-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1538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347920" y="1538280"/>
            <a:ext cx="4660920" cy="48006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84040" y="83340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4200" y="152280"/>
            <a:ext cx="8237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*   Описание экземпляров издел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1523880"/>
            <a:ext cx="1447920" cy="762120"/>
          </a:xfrm>
          <a:prstGeom prst="rect">
            <a:avLst/>
          </a:pr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Издел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3581280"/>
            <a:ext cx="2209680" cy="9144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Экземпля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изд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2286000"/>
            <a:ext cx="0" cy="129528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1447920"/>
            <a:ext cx="2438280" cy="990360"/>
          </a:xfrm>
          <a:prstGeom prst="rect">
            <a:avLst/>
          </a:pr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проце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209320" y="1905120"/>
            <a:ext cx="1295640" cy="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3581280"/>
            <a:ext cx="2590920" cy="9144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Экземпля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проце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590920" y="4114800"/>
            <a:ext cx="83808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48320" y="2514600"/>
            <a:ext cx="0" cy="99072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080" y="5562720"/>
            <a:ext cx="4419720" cy="838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Собы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(отказы,  движ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23880" y="4572000"/>
            <a:ext cx="990720" cy="990720"/>
          </a:xfrm>
          <a:prstGeom prst="line">
            <a:avLst/>
          </a:prstGeom>
          <a:ln w="38160">
            <a:solidFill>
              <a:srgbClr val="66ff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33920" y="4495680"/>
            <a:ext cx="1218960" cy="1067040"/>
          </a:xfrm>
          <a:prstGeom prst="line">
            <a:avLst/>
          </a:prstGeom>
          <a:ln w="38160">
            <a:solidFill>
              <a:srgbClr val="66ff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72200" y="129528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121932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ы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служи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мо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72200" y="304812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609"/>
                </a:lnTo>
                <a:cubicBezTo>
                  <a:pt x="10800" y="7509"/>
                  <a:pt x="5400" y="8409"/>
                  <a:pt x="0" y="8409"/>
                </a:cubicBezTo>
                <a:cubicBezTo>
                  <a:pt x="5400" y="8409"/>
                  <a:pt x="10800" y="9309"/>
                  <a:pt x="10800" y="102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629400" y="304812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ы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служи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мо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4920" y="1066680"/>
            <a:ext cx="86104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зультаты входного и выходного контроля для всех  экземпляров издел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зультаты испытаний всех экземпляров издел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ловия доставки, хранения и монтаж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ловия эксплуа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зультаты диагностики и их дина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веденные обслуживание и ремо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веденные замены комплектующ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Отслеживание экземпляров издел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terprise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PDM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52840" y="2771640"/>
            <a:ext cx="1504800" cy="795240"/>
            <a:chOff x="2652840" y="2771640"/>
            <a:chExt cx="1504800" cy="795240"/>
          </a:xfrm>
        </p:grpSpPr>
        <p:sp>
          <p:nvSpPr>
            <p:cNvPr id="88" name=""/>
            <p:cNvSpPr/>
            <p:nvPr/>
          </p:nvSpPr>
          <p:spPr>
            <a:xfrm>
              <a:off x="2652840" y="2771640"/>
              <a:ext cx="1504800" cy="795240"/>
            </a:xfrm>
            <a:prstGeom prst="can">
              <a:avLst>
                <a:gd name="adj" fmla="val 25000"/>
              </a:avLst>
            </a:prstGeom>
            <a:solidFill>
              <a:srgbClr val="29a52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05040" y="3046320"/>
              <a:ext cx="1400040" cy="459720"/>
            </a:xfrm>
            <a:prstGeom prst="rect">
              <a:avLst/>
            </a:prstGeom>
            <a:solidFill>
              <a:srgbClr val="29a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DM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54160" y="2771640"/>
            <a:ext cx="1950840" cy="734400"/>
            <a:chOff x="254160" y="2771640"/>
            <a:chExt cx="1950840" cy="734400"/>
          </a:xfrm>
        </p:grpSpPr>
        <p:sp>
          <p:nvSpPr>
            <p:cNvPr id="91" name=""/>
            <p:cNvSpPr/>
            <p:nvPr/>
          </p:nvSpPr>
          <p:spPr>
            <a:xfrm>
              <a:off x="254160" y="2771640"/>
              <a:ext cx="1950840" cy="731880"/>
            </a:xfrm>
            <a:prstGeom prst="cube">
              <a:avLst>
                <a:gd name="adj" fmla="val 25000"/>
              </a:avLst>
            </a:prstGeom>
            <a:solidFill>
              <a:srgbClr val="29a52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240" y="3046320"/>
              <a:ext cx="1594800" cy="459720"/>
            </a:xfrm>
            <a:prstGeom prst="rect">
              <a:avLst/>
            </a:prstGeom>
            <a:solidFill>
              <a:srgbClr val="29a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-К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05000" y="313848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666880" y="3759120"/>
            <a:ext cx="1504800" cy="795240"/>
            <a:chOff x="2666880" y="3759120"/>
            <a:chExt cx="1504800" cy="795240"/>
          </a:xfrm>
        </p:grpSpPr>
        <p:sp>
          <p:nvSpPr>
            <p:cNvPr id="95" name=""/>
            <p:cNvSpPr/>
            <p:nvPr/>
          </p:nvSpPr>
          <p:spPr>
            <a:xfrm>
              <a:off x="2666880" y="3759120"/>
              <a:ext cx="1504800" cy="795240"/>
            </a:xfrm>
            <a:prstGeom prst="can">
              <a:avLst>
                <a:gd name="adj" fmla="val 25000"/>
              </a:avLst>
            </a:prstGeom>
            <a:solidFill>
              <a:srgbClr val="29a52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9080" y="4033800"/>
              <a:ext cx="1400040" cy="459720"/>
            </a:xfrm>
            <a:prstGeom prst="rect">
              <a:avLst/>
            </a:prstGeom>
            <a:solidFill>
              <a:srgbClr val="29a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DM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68200" y="3759120"/>
            <a:ext cx="1950840" cy="734400"/>
            <a:chOff x="268200" y="3759120"/>
            <a:chExt cx="1950840" cy="734400"/>
          </a:xfrm>
        </p:grpSpPr>
        <p:sp>
          <p:nvSpPr>
            <p:cNvPr id="98" name=""/>
            <p:cNvSpPr/>
            <p:nvPr/>
          </p:nvSpPr>
          <p:spPr>
            <a:xfrm>
              <a:off x="268200" y="3759120"/>
              <a:ext cx="1950840" cy="731880"/>
            </a:xfrm>
            <a:prstGeom prst="cube">
              <a:avLst>
                <a:gd name="adj" fmla="val 25000"/>
              </a:avLst>
            </a:prstGeom>
            <a:solidFill>
              <a:srgbClr val="29a52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8280" y="4033800"/>
              <a:ext cx="1595160" cy="459720"/>
            </a:xfrm>
            <a:prstGeom prst="rect">
              <a:avLst/>
            </a:prstGeom>
            <a:solidFill>
              <a:srgbClr val="29a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АПР-К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19400" y="412596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16120" y="4734000"/>
            <a:ext cx="1504800" cy="795240"/>
            <a:chOff x="2616120" y="4734000"/>
            <a:chExt cx="1504800" cy="795240"/>
          </a:xfrm>
        </p:grpSpPr>
        <p:sp>
          <p:nvSpPr>
            <p:cNvPr id="102" name=""/>
            <p:cNvSpPr/>
            <p:nvPr/>
          </p:nvSpPr>
          <p:spPr>
            <a:xfrm>
              <a:off x="2616120" y="4734000"/>
              <a:ext cx="1504800" cy="795240"/>
            </a:xfrm>
            <a:prstGeom prst="can">
              <a:avLst>
                <a:gd name="adj" fmla="val 25000"/>
              </a:avLst>
            </a:prstGeom>
            <a:solidFill>
              <a:srgbClr val="c7c2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76960" y="5008680"/>
              <a:ext cx="1381680" cy="459720"/>
            </a:xfrm>
            <a:prstGeom prst="rect">
              <a:avLst/>
            </a:prstGeom>
            <a:solidFill>
              <a:srgbClr val="c7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DM T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7440" y="4734000"/>
            <a:ext cx="1950840" cy="734400"/>
            <a:chOff x="217440" y="4734000"/>
            <a:chExt cx="1950840" cy="734400"/>
          </a:xfrm>
        </p:grpSpPr>
        <p:sp>
          <p:nvSpPr>
            <p:cNvPr id="105" name=""/>
            <p:cNvSpPr/>
            <p:nvPr/>
          </p:nvSpPr>
          <p:spPr>
            <a:xfrm>
              <a:off x="217440" y="4734000"/>
              <a:ext cx="1950840" cy="731880"/>
            </a:xfrm>
            <a:prstGeom prst="cube">
              <a:avLst>
                <a:gd name="adj" fmla="val 25000"/>
              </a:avLst>
            </a:prstGeom>
            <a:solidFill>
              <a:srgbClr val="c7c2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5800" y="5008680"/>
              <a:ext cx="1576800" cy="459720"/>
            </a:xfrm>
            <a:prstGeom prst="rect">
              <a:avLst/>
            </a:prstGeom>
            <a:solidFill>
              <a:srgbClr val="c7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АПР-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68640" y="510048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6120" y="5708520"/>
            <a:ext cx="1504800" cy="795240"/>
            <a:chOff x="2616120" y="5708520"/>
            <a:chExt cx="1504800" cy="795240"/>
          </a:xfrm>
        </p:grpSpPr>
        <p:sp>
          <p:nvSpPr>
            <p:cNvPr id="109" name=""/>
            <p:cNvSpPr/>
            <p:nvPr/>
          </p:nvSpPr>
          <p:spPr>
            <a:xfrm>
              <a:off x="2616120" y="5708520"/>
              <a:ext cx="1504800" cy="795240"/>
            </a:xfrm>
            <a:prstGeom prst="can">
              <a:avLst>
                <a:gd name="adj" fmla="val 25000"/>
              </a:avLst>
            </a:prstGeom>
            <a:solidFill>
              <a:srgbClr val="6fb414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4720" y="5983200"/>
              <a:ext cx="1409040" cy="459720"/>
            </a:xfrm>
            <a:prstGeom prst="rect">
              <a:avLst/>
            </a:prstGeom>
            <a:solidFill>
              <a:srgbClr val="6fb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DM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7440" y="5708520"/>
            <a:ext cx="1950840" cy="734400"/>
            <a:chOff x="217440" y="5708520"/>
            <a:chExt cx="1950840" cy="734400"/>
          </a:xfrm>
        </p:grpSpPr>
        <p:sp>
          <p:nvSpPr>
            <p:cNvPr id="112" name=""/>
            <p:cNvSpPr/>
            <p:nvPr/>
          </p:nvSpPr>
          <p:spPr>
            <a:xfrm>
              <a:off x="217440" y="5708520"/>
              <a:ext cx="1950840" cy="731880"/>
            </a:xfrm>
            <a:prstGeom prst="cube">
              <a:avLst>
                <a:gd name="adj" fmla="val 25000"/>
              </a:avLst>
            </a:prstGeom>
            <a:solidFill>
              <a:srgbClr val="6fb414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5400" y="5983200"/>
              <a:ext cx="1680480" cy="459720"/>
            </a:xfrm>
            <a:prstGeom prst="rect">
              <a:avLst/>
            </a:prstGeom>
            <a:solidFill>
              <a:srgbClr val="6fb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АПР- К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68640" y="607536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7680" y="1427040"/>
            <a:ext cx="1523880" cy="5077080"/>
          </a:xfrm>
          <a:prstGeom prst="can">
            <a:avLst>
              <a:gd name="adj" fmla="val 7787"/>
            </a:avLst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9760" y="4110120"/>
            <a:ext cx="2271960" cy="974520"/>
          </a:xfrm>
          <a:prstGeom prst="can">
            <a:avLst>
              <a:gd name="adj" fmla="val 23916"/>
            </a:avLst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19800" y="439740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72040" y="314784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2040" y="414504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72040" y="5116680"/>
            <a:ext cx="447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7640" y="607536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7680" y="2130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967560" y="411156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едприя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760" y="1736640"/>
            <a:ext cx="3813120" cy="603360"/>
          </a:xfrm>
          <a:prstGeom prst="cube">
            <a:avLst>
              <a:gd name="adj" fmla="val 21314"/>
            </a:avLst>
          </a:prstGeom>
          <a:solidFill>
            <a:srgbClr val="23908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3760" y="188280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правление прое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19760" y="1671480"/>
            <a:ext cx="2271960" cy="1032120"/>
          </a:xfrm>
          <a:prstGeom prst="cube">
            <a:avLst>
              <a:gd name="adj" fmla="val 11125"/>
            </a:avLst>
          </a:prstGeom>
          <a:solidFill>
            <a:srgbClr val="8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7600" y="1881360"/>
            <a:ext cx="19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81560" y="2252520"/>
            <a:ext cx="538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1560" y="4538520"/>
            <a:ext cx="538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19760" y="2878200"/>
            <a:ext cx="2271960" cy="987480"/>
          </a:xfrm>
          <a:prstGeom prst="cube">
            <a:avLst>
              <a:gd name="adj" fmla="val 11125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9760" y="30430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реб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81560" y="3414600"/>
            <a:ext cx="538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06880" y="2120760"/>
            <a:ext cx="550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19760" y="5407200"/>
            <a:ext cx="2271960" cy="987120"/>
          </a:xfrm>
          <a:prstGeom prst="cube">
            <a:avLst>
              <a:gd name="adj" fmla="val 11125"/>
            </a:avLst>
          </a:prstGeom>
          <a:solidFill>
            <a:srgbClr val="66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9760" y="55720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держка эксплуа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81560" y="5943600"/>
            <a:ext cx="538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2440" y="151920"/>
            <a:ext cx="836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*       Архитектура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112760" y="1143000"/>
            <a:ext cx="77263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77960" y="152280"/>
            <a:ext cx="82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*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дачи, решаемые на баз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77960" y="1911240"/>
            <a:ext cx="7824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ние компьютерной системы ка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ланирование потребнос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оение системы ИЛ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шаемые с помощью PDM задачи М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66000" y="2557440"/>
            <a:ext cx="1824120" cy="393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9680" y="2557440"/>
            <a:ext cx="6556320" cy="393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 процесс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 документаци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 запис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лиз со стороны руко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ресурсов (человеческие ресурсы, инфраструктур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ирование жизненного цикла продук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алидация процессов производства и обслуж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иторинг и изме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966000" y="1309680"/>
            <a:ext cx="1824120" cy="12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 стандарта ГОСТ Р ИСО 9001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09680" y="1309680"/>
            <a:ext cx="6556320" cy="12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ешаемы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9680" y="1309680"/>
            <a:ext cx="83804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9680" y="2557440"/>
            <a:ext cx="838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9680" y="6492960"/>
            <a:ext cx="655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66000" y="1309680"/>
            <a:ext cx="0" cy="518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790120" y="1309680"/>
            <a:ext cx="0" cy="5183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66000" y="6492960"/>
            <a:ext cx="18241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9680" y="2557440"/>
            <a:ext cx="0" cy="3935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9680" y="1309680"/>
            <a:ext cx="0" cy="12477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2476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бор данных о качестве (ОАО НПП «Аэросила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9880" y="8762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Лопасть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80880" y="1055520"/>
            <a:ext cx="6813720" cy="46245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3016080" y="2662200"/>
            <a:ext cx="5923080" cy="3843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7253280" y="140652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зультаты контро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85680" y="5803920"/>
            <a:ext cx="16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нные по дефект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43080" y="24768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онтролируемые параметры техпроце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2840" y="1139760"/>
            <a:ext cx="8629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Ф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аываы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9880" y="8762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Бизнес_ресурс" descr=""/>
          <p:cNvPicPr/>
          <p:nvPr/>
        </p:nvPicPr>
        <p:blipFill>
          <a:blip r:embed="rId1"/>
          <a:stretch/>
        </p:blipFill>
        <p:spPr>
          <a:xfrm>
            <a:off x="380880" y="1031760"/>
            <a:ext cx="85345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43080" y="24768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Результаты прогноз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880" y="876240"/>
            <a:ext cx="863928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Выбор4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487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нализ данных и функции планир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447920" y="133668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5240" y="1909800"/>
            <a:ext cx="41781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ереч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тандарт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куп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атериа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Т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ланы цех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Целостность Б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4375080" y="1606680"/>
            <a:ext cx="46166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Прямые и обратные информационные связи между основными стадиями ЖЦ изде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447920" y="1095480"/>
            <a:ext cx="73911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1752480"/>
            <a:ext cx="1828800" cy="1219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33920" y="2133720"/>
            <a:ext cx="1904760" cy="12189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3200400"/>
            <a:ext cx="1828800" cy="121932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сплуатация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служива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он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572000" y="3352320"/>
            <a:ext cx="0" cy="1295640"/>
          </a:xfrm>
          <a:prstGeom prst="line">
            <a:avLst/>
          </a:prstGeom>
          <a:ln w="63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77320" y="3733920"/>
            <a:ext cx="53316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610480" y="3733920"/>
            <a:ext cx="0" cy="121896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572000" y="4648320"/>
            <a:ext cx="3733920" cy="0"/>
          </a:xfrm>
          <a:prstGeom prst="line">
            <a:avLst/>
          </a:prstGeom>
          <a:ln w="63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133360" y="4952880"/>
            <a:ext cx="6476760" cy="0"/>
          </a:xfrm>
          <a:prstGeom prst="line">
            <a:avLst/>
          </a:prstGeom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2971440"/>
            <a:ext cx="0" cy="19810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2362320"/>
            <a:ext cx="6094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514600"/>
            <a:ext cx="609840" cy="0"/>
          </a:xfrm>
          <a:prstGeom prst="line">
            <a:avLst/>
          </a:prstGeom>
          <a:ln w="63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867280" y="350532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52680" y="2514600"/>
            <a:ext cx="0" cy="1295280"/>
          </a:xfrm>
          <a:prstGeom prst="line">
            <a:avLst/>
          </a:prstGeom>
          <a:ln w="63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52680" y="3809880"/>
            <a:ext cx="2895840" cy="0"/>
          </a:xfrm>
          <a:prstGeom prst="line">
            <a:avLst/>
          </a:prstGeom>
          <a:ln w="63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867280" y="2819160"/>
            <a:ext cx="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5638320" y="2819520"/>
            <a:ext cx="2286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077320" y="3962520"/>
            <a:ext cx="228600" cy="0"/>
          </a:xfrm>
          <a:prstGeom prst="line">
            <a:avLst/>
          </a:prstGeom>
          <a:ln w="63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05920" y="3962520"/>
            <a:ext cx="0" cy="685800"/>
          </a:xfrm>
          <a:prstGeom prst="line">
            <a:avLst/>
          </a:prstGeom>
          <a:ln w="63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120" y="5410080"/>
            <a:ext cx="380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5715000"/>
            <a:ext cx="380880" cy="0"/>
          </a:xfrm>
          <a:prstGeom prst="line">
            <a:avLst/>
          </a:prstGeom>
          <a:ln w="633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6019920"/>
            <a:ext cx="380880" cy="0"/>
          </a:xfrm>
          <a:prstGeom prst="line">
            <a:avLst/>
          </a:prstGeom>
          <a:ln w="63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541008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523880" y="5257800"/>
            <a:ext cx="6782040" cy="914400"/>
            <a:chOff x="1523880" y="5257800"/>
            <a:chExt cx="6782040" cy="914400"/>
          </a:xfrm>
        </p:grpSpPr>
        <p:sp>
          <p:nvSpPr>
            <p:cNvPr id="621" name=""/>
            <p:cNvSpPr/>
            <p:nvPr/>
          </p:nvSpPr>
          <p:spPr>
            <a:xfrm flipV="1">
              <a:off x="5486400" y="5257800"/>
              <a:ext cx="28195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Индивидуальные данные об издел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523880" y="5257800"/>
              <a:ext cx="39625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ребования заказчи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486400" y="5568120"/>
              <a:ext cx="2819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анные, связанные с МТ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523880" y="5568120"/>
              <a:ext cx="3962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онструкторские и технологические дан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486400" y="5879520"/>
              <a:ext cx="2819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анные об опыте эксплуат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523880" y="5879520"/>
              <a:ext cx="3962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анные по технологии эксплуат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23880" y="6172200"/>
              <a:ext cx="3962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23880" y="5257800"/>
              <a:ext cx="3962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1523880" y="5257800"/>
              <a:ext cx="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8305920" y="5257800"/>
              <a:ext cx="0" cy="3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86400" y="5257800"/>
              <a:ext cx="281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1523880" y="5568480"/>
              <a:ext cx="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8305920" y="5568480"/>
              <a:ext cx="0" cy="311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1523880" y="5879880"/>
              <a:ext cx="0" cy="29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8305920" y="5879880"/>
              <a:ext cx="0" cy="29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86400" y="6172200"/>
              <a:ext cx="281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4952880" y="5715000"/>
            <a:ext cx="381240" cy="0"/>
          </a:xfrm>
          <a:prstGeom prst="line">
            <a:avLst/>
          </a:prstGeom>
          <a:ln w="63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6019920"/>
            <a:ext cx="381240" cy="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Экземплярный%20состав%20ТУ%20214%20борт%2064507" descr="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5167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нные о ПКИ, установленных на самолет ТУ-214 (борт 5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Карточка%20комплектующего%20изделия" descr=""/>
          <p:cNvPicPr/>
          <p:nvPr/>
        </p:nvPicPr>
        <p:blipFill>
          <a:blip r:embed="rId1"/>
          <a:stretch/>
        </p:blipFill>
        <p:spPr>
          <a:xfrm>
            <a:off x="1276200" y="2108160"/>
            <a:ext cx="6591600" cy="4213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151452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02680" y="609120"/>
            <a:ext cx="878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мер карточки комплектующего издел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96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бования к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DM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редпри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43000"/>
            <a:ext cx="7924680" cy="55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формационная модель построенная на базе международных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крытость и расширяемость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ханизмы управления измен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штабируемось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хуровневая архитектура, распределенные базы данны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ичие встроенных средств коммуникаци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почта, документооборот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проект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лектронные подпи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правление доступ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Бюллетень" descr=""/>
          <p:cNvPicPr/>
          <p:nvPr/>
        </p:nvPicPr>
        <p:blipFill>
          <a:blip r:embed="rId1"/>
          <a:stretch/>
        </p:blipFill>
        <p:spPr>
          <a:xfrm>
            <a:off x="1362240" y="1143000"/>
            <a:ext cx="6419520" cy="53434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84320" y="234720"/>
            <a:ext cx="86961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т работ по бюллетеням и указан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"/>
          <p:cNvGraphicFramePr/>
          <p:nvPr/>
        </p:nvGraphicFramePr>
        <p:xfrm>
          <a:off x="304920" y="1295280"/>
          <a:ext cx="853416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5341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бор и обработка данных по отка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Отказ" descr=""/>
          <p:cNvPicPr/>
          <p:nvPr/>
        </p:nvPicPr>
        <p:blipFill>
          <a:blip r:embed="rId1"/>
          <a:stretch/>
        </p:blipFill>
        <p:spPr>
          <a:xfrm>
            <a:off x="304920" y="1357200"/>
            <a:ext cx="4689360" cy="471024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067360" cy="416232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48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чки учета неисправност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поиск отк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81440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FlierDlg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4372200" cy="4032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595520" y="13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FindFlier" descr=""/>
          <p:cNvPicPr/>
          <p:nvPr/>
        </p:nvPicPr>
        <p:blipFill>
          <a:blip r:embed="rId2"/>
          <a:srcRect l="0" t="5119" r="0" b="0"/>
          <a:stretch/>
        </p:blipFill>
        <p:spPr>
          <a:xfrm>
            <a:off x="3962520" y="3429000"/>
            <a:ext cx="4733640" cy="31845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бор данных о выполненных полет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Планирование%20и%20эксплуатация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38880" cy="527832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ланирование работ по обслуживанию парка самол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тчеты по отказам ПКИ и их техническому состоя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447920" y="134460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295280" y="1498680"/>
            <a:ext cx="7178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роекты по внедрению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9880" y="612720"/>
            <a:ext cx="751392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emblema" descr="Aerosila.ru"/>
          <p:cNvPicPr/>
          <p:nvPr/>
        </p:nvPicPr>
        <p:blipFill>
          <a:blip r:embed="rId1"/>
          <a:stretch/>
        </p:blipFill>
        <p:spPr>
          <a:xfrm>
            <a:off x="228600" y="911160"/>
            <a:ext cx="725400" cy="725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1444680" y="91116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АО "НПП "Аэросила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blogo" descr="Логотип"/>
          <p:cNvPicPr/>
          <p:nvPr/>
        </p:nvPicPr>
        <p:blipFill>
          <a:blip r:embed="rId2"/>
          <a:stretch/>
        </p:blipFill>
        <p:spPr>
          <a:xfrm>
            <a:off x="228600" y="381168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1450080" y="3790800"/>
            <a:ext cx="62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НТК имени Г.М. Бериев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1636560"/>
            <a:ext cx="56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осударственный Рязан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борный За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228600" y="185256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5256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2" name="znak_s%20copy" descr=""/>
          <p:cNvPicPr/>
          <p:nvPr/>
        </p:nvPicPr>
        <p:blipFill>
          <a:blip r:embed="rId5"/>
          <a:stretch/>
        </p:blipFill>
        <p:spPr>
          <a:xfrm>
            <a:off x="228600" y="2832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446120" y="300348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ГУП ОКБ «Спект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46200" y="460548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фимское Моторостроитель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изводственное Объеди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6"/>
          <a:stretch/>
        </p:blipFill>
        <p:spPr>
          <a:xfrm>
            <a:off x="228600" y="4791240"/>
            <a:ext cx="210492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7"/>
          <a:stretch/>
        </p:blipFill>
        <p:spPr>
          <a:xfrm>
            <a:off x="228600" y="5803920"/>
            <a:ext cx="3505320" cy="83808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4055040" y="5702400"/>
            <a:ext cx="37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зан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ртолетный зав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logo2_340_&amp;white" descr=""/>
          <p:cNvPicPr/>
          <p:nvPr/>
        </p:nvPicPr>
        <p:blipFill>
          <a:blip r:embed="rId8"/>
          <a:stretch/>
        </p:blipFill>
        <p:spPr>
          <a:xfrm>
            <a:off x="8131320" y="27000"/>
            <a:ext cx="807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43080" y="0"/>
            <a:ext cx="853416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Проекты по внедрению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487440" y="5110200"/>
            <a:ext cx="1633320" cy="7603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179800" y="516744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ИИ Авиационного оборуд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487440" y="6005520"/>
            <a:ext cx="3011400" cy="68436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3847320" y="5791320"/>
            <a:ext cx="36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льяновское К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боростро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530280" y="1606680"/>
            <a:ext cx="619200" cy="712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180520" y="160668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ГУП ОНПП «Технологи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487440" y="245268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181960" y="2452680"/>
            <a:ext cx="33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АО «Туполев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181600" y="4343400"/>
            <a:ext cx="38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О НПО «ЭЛАК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5"/>
          <a:stretch/>
        </p:blipFill>
        <p:spPr>
          <a:xfrm>
            <a:off x="487440" y="4243320"/>
            <a:ext cx="1350720" cy="7333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6"/>
          <a:stretch/>
        </p:blipFill>
        <p:spPr>
          <a:xfrm>
            <a:off x="487440" y="3305160"/>
            <a:ext cx="1035000" cy="8049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183400" y="3171960"/>
            <a:ext cx="594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занское авиацион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оизводственное объеди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7"/>
          <a:stretch/>
        </p:blipFill>
        <p:spPr>
          <a:xfrm>
            <a:off x="530280" y="893880"/>
            <a:ext cx="415800" cy="5792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181600" y="893880"/>
            <a:ext cx="65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ГУП «Воронежский НИИ связ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9880" y="612720"/>
            <a:ext cx="7513920" cy="0"/>
          </a:xfrm>
          <a:prstGeom prst="line">
            <a:avLst/>
          </a:prstGeom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logo2_340_&amp;white" descr=""/>
          <p:cNvPicPr/>
          <p:nvPr/>
        </p:nvPicPr>
        <p:blipFill>
          <a:blip r:embed="rId8"/>
          <a:stretch/>
        </p:blipFill>
        <p:spPr>
          <a:xfrm>
            <a:off x="8131320" y="27000"/>
            <a:ext cx="807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40840" y="228240"/>
            <a:ext cx="875052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Спасибо за внимание 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33240" y="1728720"/>
            <a:ext cx="7391520" cy="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3240" y="2741760"/>
            <a:ext cx="80424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Вопросы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87480" y="5938920"/>
            <a:ext cx="792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3e1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ffff"/>
                </a:solidFill>
                <a:latin typeface="Arial"/>
              </a:rPr>
              <a:t>(095) 955-51-37</a:t>
            </a:r>
            <a:r>
              <a:rPr b="1" i="1" lang="ru-RU" sz="2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6bc3ff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cals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4"/>
              </a:rPr>
              <a:t>ru</a:t>
            </a:r>
            <a:r>
              <a:rPr b="1" i="1" lang="ru-RU" sz="2600" spc="-1" strike="noStrike">
                <a:solidFill>
                  <a:srgbClr val="6bc3ff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5"/>
              </a:rPr>
              <a:t>ayatsk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6"/>
              </a:rPr>
              <a:t>@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7"/>
              </a:rPr>
              <a:t>cals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600" spc="-1" strike="noStrike" u="sng">
                <a:solidFill>
                  <a:srgbClr val="00ffff"/>
                </a:solidFill>
                <a:uFillTx/>
                <a:latin typeface="Arial"/>
                <a:hlinkClick r:id="rId9"/>
              </a:rPr>
              <a:t>r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0160" y="5234040"/>
            <a:ext cx="442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лексей Яцке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функции систем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1320" y="1143000"/>
            <a:ext cx="8302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е докум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е структурой изде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ранение технологических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е измене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строение справоч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е проек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правление потоками рабо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документ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488960"/>
            <a:ext cx="79246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ерсии докумен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труктурируемые доку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зменения докумен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Ассоциация документов с    любыми объект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200" y="151920"/>
            <a:ext cx="8345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структуры изделия 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200" y="1911240"/>
            <a:ext cx="7956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личные точки зр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риантная структура изде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оговариантные материа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ноговариантные заме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94c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нтексты структуры изде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2_340_&amp;white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84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47920" y="990720"/>
            <a:ext cx="7391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контексты_256" descr=""/>
          <p:cNvPicPr/>
          <p:nvPr/>
        </p:nvPicPr>
        <p:blipFill>
          <a:blip r:embed="rId2"/>
          <a:stretch/>
        </p:blipFill>
        <p:spPr>
          <a:xfrm>
            <a:off x="652320" y="1193760"/>
            <a:ext cx="818676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5:26:55Z</dcterms:created>
  <dc:creator>Alexey</dc:creator>
  <dc:description/>
  <dc:language>en-US</dc:language>
  <cp:lastModifiedBy>Alexey Yatskevich</cp:lastModifiedBy>
  <dcterms:modified xsi:type="dcterms:W3CDTF">2005-04-29T10:46:23Z</dcterms:modified>
  <cp:revision>177</cp:revision>
  <dc:subject/>
  <dc:title>Новые возможности системы PSS и перспективные направления ее развития</dc:title>
</cp:coreProperties>
</file>